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F6E-3340-4DF3-8938-0FB0CFDF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194-0379-4A03-B6AE-81CAC68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3C6-C67C-45D3-90DB-3A230B7D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2E6-D4E2-4E05-8E2B-A306F812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5A62-0C83-4C0F-AE0B-A95CAD40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664D-1473-4B40-BAE2-7F49F12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5CA7-7EC2-4951-A07A-3F9B177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D313-F622-43D6-A52B-F871DF6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56DC-6771-45E5-BC27-7BEFBED9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2FFA-DF54-414A-9CEA-D328DA2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BC54-877A-44FF-959F-9452D54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50E-C497-4488-BC53-57E7F150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A1B6-E0D5-4D1E-8353-5C975D9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5BB7-3B90-4275-A212-AB3807B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ED71-6BBA-4CC4-B1BC-A79966F6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C0C-EBD0-4F33-8AE9-5816A0AE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4CEF-F819-42D7-AAE4-9654737F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054-65F6-4B02-AC59-EC9F194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33E-764A-4E72-A6D7-D2CB849A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11E-C78E-4CFD-9DA7-284461CE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6F3-C8E8-4009-A7C3-923E9BAA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353-122D-4455-9422-353C3C3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C05-A62C-4194-8D97-1D78A23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529-B71D-462C-96AB-6E396DE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D11F-ED81-4E5E-A353-83215DCA5F6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0473-E5BF-4261-98FA-3B08416CCA25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.\drawTree.exe" TargetMode="External"/><Relationship Id="rId2" Type="http://schemas.openxmlformats.org/officeDocument/2006/relationships/hyperlink" Target=".\fractal.exe" TargetMode="External"/><Relationship Id="rId3" Type="http://schemas.openxmlformats.org/officeDocument/2006/relationships/hyperlink" Target=".\figures.exe" TargetMode="External"/><Relationship Id="rId4" Type="http://schemas.openxmlformats.org/officeDocument/2006/relationships/hyperlink" Target=".\drawTree.exe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\composition.exe" TargetMode="External"/><Relationship Id="rId2" Type="http://schemas.openxmlformats.org/officeDocument/2006/relationships/hyperlink" Target=".\EarthandMoon.exe" TargetMode="External"/><Relationship Id="rId3" Type="http://schemas.openxmlformats.org/officeDocument/2006/relationships/hyperlink" Target=".\matrixvector.ex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.\MatVec3.exe" TargetMode="External"/><Relationship Id="rId2" Type="http://schemas.openxmlformats.org/officeDocument/2006/relationships/hyperlink" Target=".\rotDemo.exe" TargetMode="External"/><Relationship Id="rId3" Type="http://schemas.openxmlformats.org/officeDocument/2006/relationships/hyperlink" Target=".\tilting.exe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.\cube0.exe" TargetMode="External"/><Relationship Id="rId2" Type="http://schemas.openxmlformats.org/officeDocument/2006/relationships/hyperlink" Target=".\cube1.exe" TargetMode="External"/><Relationship Id="rId3" Type="http://schemas.openxmlformats.org/officeDocument/2006/relationships/hyperlink" Target=".\tilting.exe" TargetMode="External"/><Relationship Id="rId4" Type="http://schemas.openxmlformats.org/officeDocument/2006/relationships/hyperlink" Target=".\tilting.exe" TargetMode="External"/><Relationship Id="rId5" Type="http://schemas.openxmlformats.org/officeDocument/2006/relationships/hyperlink" Target=".\cube4.exe" TargetMode="External"/><Relationship Id="rId6" Type="http://schemas.openxmlformats.org/officeDocument/2006/relationships/hyperlink" Target=".\cube5.exe" TargetMode="Externa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.\cube0.exe" TargetMode="External"/><Relationship Id="rId2" Type="http://schemas.openxmlformats.org/officeDocument/2006/relationships/hyperlink" Target=".\icosahedron.exe" TargetMode="External"/><Relationship Id="rId3" Type="http://schemas.openxmlformats.org/officeDocument/2006/relationships/hyperlink" Target=".\polyhedrons.exe" TargetMode="External"/><Relationship Id="rId4" Type="http://schemas.openxmlformats.org/officeDocument/2006/relationships/hyperlink" Target=".\polyhedrons.exe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.\sphere.exe" TargetMode="External"/><Relationship Id="rId2" Type="http://schemas.openxmlformats.org/officeDocument/2006/relationships/hyperlink" Target=".\torus.exe" TargetMode="External"/><Relationship Id="rId3" Type="http://schemas.openxmlformats.org/officeDocument/2006/relationships/hyperlink" Target=".\sphere.exe" TargetMode="External"/><Relationship Id="rId4" Type="http://schemas.openxmlformats.org/officeDocument/2006/relationships/hyperlink" Target=".\torus.exe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.\torussphere1.exe" TargetMode="External"/><Relationship Id="rId2" Type="http://schemas.openxmlformats.org/officeDocument/2006/relationships/hyperlink" Target=".\torussphere2.exe" TargetMode="External"/><Relationship Id="rId3" Type="http://schemas.openxmlformats.org/officeDocument/2006/relationships/hyperlink" Target=".\torussphere2.exe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.\square.exe" TargetMode="External"/><Relationship Id="rId2" Type="http://schemas.openxmlformats.org/officeDocument/2006/relationships/hyperlink" Target=".\torussphere.exe" TargetMode="External"/><Relationship Id="rId3" Type="http://schemas.openxmlformats.org/officeDocument/2006/relationships/hyperlink" Target=".\cubewithtex.exe" TargetMode="External"/><Relationship Id="rId4" Type="http://schemas.openxmlformats.org/officeDocument/2006/relationships/hyperlink" Target=".\providedObjects.exe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.\execs\spline1.exe" TargetMode="External"/><Relationship Id="rId2" Type="http://schemas.openxmlformats.org/officeDocument/2006/relationships/hyperlink" Target=".\execs\spline2.exe" TargetMode="External"/><Relationship Id="rId3" Type="http://schemas.openxmlformats.org/officeDocument/2006/relationships/hyperlink" Target=".\execs\bezier1.exe" TargetMode="External"/><Relationship Id="rId4" Type="http://schemas.openxmlformats.org/officeDocument/2006/relationships/hyperlink" Target=".\execs\bezier2.exe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test003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test004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.\line1" TargetMode="External"/><Relationship Id="rId2" Type="http://schemas.openxmlformats.org/officeDocument/2006/relationships/hyperlink" Target=".\line5" TargetMode="External"/><Relationship Id="rId3" Type="http://schemas.openxmlformats.org/officeDocument/2006/relationships/hyperlink" Target=".\primitive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Introduction to </a:t>
            </a:r>
            <a:br>
              <a:rPr sz="6000"/>
            </a:b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Computer Graphic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ctover 200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Toshifumi KOSA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62120" y="2590920"/>
            <a:ext cx="8075880" cy="3018240"/>
            <a:chOff x="762120" y="2590920"/>
            <a:chExt cx="8075880" cy="3018240"/>
          </a:xfrm>
        </p:grpSpPr>
        <p:grpSp>
          <p:nvGrpSpPr>
            <p:cNvPr id="128" name=""/>
            <p:cNvGrpSpPr/>
            <p:nvPr/>
          </p:nvGrpSpPr>
          <p:grpSpPr>
            <a:xfrm>
              <a:off x="4892760" y="2590920"/>
              <a:ext cx="3945240" cy="2806560"/>
              <a:chOff x="4892760" y="2590920"/>
              <a:chExt cx="3945240" cy="2806560"/>
            </a:xfrm>
          </p:grpSpPr>
          <p:sp>
            <p:nvSpPr>
              <p:cNvPr id="129" name=""/>
              <p:cNvSpPr/>
              <p:nvPr/>
            </p:nvSpPr>
            <p:spPr>
              <a:xfrm>
                <a:off x="5845680" y="2802240"/>
                <a:ext cx="2118240" cy="2436120"/>
              </a:xfrm>
              <a:custGeom>
                <a:avLst/>
                <a:gdLst/>
                <a:ahLst/>
                <a:rect l="l" t="t" r="r" b="b"/>
                <a:pathLst>
                  <a:path w="960" h="1104">
                    <a:moveTo>
                      <a:pt x="480" y="0"/>
                    </a:moveTo>
                    <a:lnTo>
                      <a:pt x="0" y="192"/>
                    </a:lnTo>
                    <a:lnTo>
                      <a:pt x="0" y="672"/>
                    </a:lnTo>
                    <a:lnTo>
                      <a:pt x="336" y="1104"/>
                    </a:lnTo>
                    <a:lnTo>
                      <a:pt x="912" y="912"/>
                    </a:lnTo>
                    <a:lnTo>
                      <a:pt x="960" y="384"/>
                    </a:lnTo>
                    <a:lnTo>
                      <a:pt x="816" y="96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45680" y="5238720"/>
                <a:ext cx="211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45680" y="2802240"/>
                <a:ext cx="211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4998600" y="3120120"/>
                    <a:ext cx="82944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4892760" y="4179600"/>
                    <a:ext cx="90036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7972920" y="3438000"/>
                    <a:ext cx="865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5" name=""/>
                  <p:cNvSpPr txBox="1"/>
                  <p:nvPr/>
                </p:nvSpPr>
                <p:spPr>
                  <a:xfrm>
                    <a:off x="7858440" y="4708800"/>
                    <a:ext cx="9529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" name=""/>
              <p:cNvSpPr/>
              <p:nvPr/>
            </p:nvSpPr>
            <p:spPr>
              <a:xfrm>
                <a:off x="5845680" y="3967920"/>
                <a:ext cx="208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45680" y="3967920"/>
                <a:ext cx="9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8" name=""/>
                  <p:cNvSpPr txBox="1"/>
                  <p:nvPr/>
                </p:nvSpPr>
                <p:spPr>
                  <a:xfrm>
                    <a:off x="5060160" y="3755520"/>
                    <a:ext cx="7239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7999560" y="3861720"/>
                    <a:ext cx="77652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6516720" y="3650040"/>
                    <a:ext cx="56484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5422320" y="5132880"/>
                    <a:ext cx="37044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5413320" y="2590920"/>
                    <a:ext cx="38808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3" name=""/>
            <p:cNvGrpSpPr/>
            <p:nvPr/>
          </p:nvGrpSpPr>
          <p:grpSpPr>
            <a:xfrm>
              <a:off x="762120" y="2590920"/>
              <a:ext cx="3830760" cy="3018240"/>
              <a:chOff x="762120" y="2590920"/>
              <a:chExt cx="3830760" cy="301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9560" y="2802240"/>
                <a:ext cx="2117880" cy="2436120"/>
              </a:xfrm>
              <a:custGeom>
                <a:avLst/>
                <a:gdLst/>
                <a:ahLst/>
                <a:rect l="l" t="t" r="r" b="b"/>
                <a:pathLst>
                  <a:path w="960" h="1104">
                    <a:moveTo>
                      <a:pt x="480" y="0"/>
                    </a:moveTo>
                    <a:lnTo>
                      <a:pt x="0" y="192"/>
                    </a:lnTo>
                    <a:lnTo>
                      <a:pt x="0" y="672"/>
                    </a:lnTo>
                    <a:lnTo>
                      <a:pt x="336" y="1104"/>
                    </a:lnTo>
                    <a:lnTo>
                      <a:pt x="912" y="912"/>
                    </a:lnTo>
                    <a:lnTo>
                      <a:pt x="960" y="384"/>
                    </a:lnTo>
                    <a:lnTo>
                      <a:pt x="816" y="96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09560" y="5238720"/>
                <a:ext cx="211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09560" y="2802240"/>
                <a:ext cx="211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7" name=""/>
                  <p:cNvSpPr txBox="1"/>
                  <p:nvPr/>
                </p:nvSpPr>
                <p:spPr>
                  <a:xfrm>
                    <a:off x="762120" y="4179600"/>
                    <a:ext cx="82944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l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2032920" y="5344200"/>
                    <a:ext cx="9003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3727800" y="3543840"/>
                    <a:ext cx="86508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" name=""/>
                  <p:cNvSpPr txBox="1"/>
                  <p:nvPr/>
                </p:nvSpPr>
                <p:spPr>
                  <a:xfrm>
                    <a:off x="3621600" y="4708800"/>
                    <a:ext cx="9529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1" name=""/>
              <p:cNvSpPr/>
              <p:nvPr/>
            </p:nvSpPr>
            <p:spPr>
              <a:xfrm>
                <a:off x="1852200" y="4603320"/>
                <a:ext cx="178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47880" y="4603320"/>
                <a:ext cx="9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1079640" y="4497120"/>
                    <a:ext cx="72396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3727800" y="4497120"/>
                    <a:ext cx="77652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"/>
                  <p:cNvSpPr txBox="1"/>
                  <p:nvPr/>
                </p:nvSpPr>
                <p:spPr>
                  <a:xfrm>
                    <a:off x="2562840" y="4285440"/>
                    <a:ext cx="56484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6" name=""/>
                  <p:cNvSpPr txBox="1"/>
                  <p:nvPr/>
                </p:nvSpPr>
                <p:spPr>
                  <a:xfrm>
                    <a:off x="1185840" y="5132520"/>
                    <a:ext cx="37044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1176840" y="2590920"/>
                    <a:ext cx="388080" cy="26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58" name=""/>
          <p:cNvSpPr/>
          <p:nvPr/>
        </p:nvSpPr>
        <p:spPr>
          <a:xfrm>
            <a:off x="1600200" y="380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Polygon with Interpo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ating Polygon has similar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7621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rograms in 2D C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/>
          </p:cNvPr>
          <p:cNvSpPr/>
          <p:nvPr/>
        </p:nvSpPr>
        <p:spPr>
          <a:xfrm>
            <a:off x="1066680" y="5303880"/>
            <a:ext cx="18288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/>
          </p:cNvPr>
          <p:cNvSpPr/>
          <p:nvPr/>
        </p:nvSpPr>
        <p:spPr>
          <a:xfrm>
            <a:off x="1066680" y="4237200"/>
            <a:ext cx="25909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/>
          </p:cNvPr>
          <p:cNvSpPr/>
          <p:nvPr/>
        </p:nvSpPr>
        <p:spPr>
          <a:xfrm>
            <a:off x="1066680" y="3170160"/>
            <a:ext cx="25909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 Mor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51814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4114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number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3048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o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4"/>
          </p:cNvPr>
          <p:cNvSpPr/>
          <p:nvPr/>
        </p:nvSpPr>
        <p:spPr>
          <a:xfrm>
            <a:off x="1066680" y="2103480"/>
            <a:ext cx="18288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19810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3360" y="304920"/>
            <a:ext cx="88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2) Calculation of the coordinates of the points in 2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ransformation of a  plane fig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otation, Translation, Scaling,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/>
          </p:cNvPr>
          <p:cNvSpPr/>
          <p:nvPr/>
        </p:nvSpPr>
        <p:spPr>
          <a:xfrm>
            <a:off x="1447920" y="2952720"/>
            <a:ext cx="10666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1447920" y="3619440"/>
            <a:ext cx="10666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3"/>
          </p:cNvPr>
          <p:cNvSpPr/>
          <p:nvPr/>
        </p:nvSpPr>
        <p:spPr>
          <a:xfrm>
            <a:off x="1447920" y="2286000"/>
            <a:ext cx="10666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3657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th and the 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971800"/>
            <a:ext cx="53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of Transforma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2251080"/>
            <a:ext cx="55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of Transforma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143000" y="2057040"/>
            <a:ext cx="4266360" cy="1677240"/>
            <a:chOff x="1143000" y="2057040"/>
            <a:chExt cx="4266360" cy="1677240"/>
          </a:xfrm>
        </p:grpSpPr>
        <p:sp>
          <p:nvSpPr>
            <p:cNvPr id="177" name=""/>
            <p:cNvSpPr/>
            <p:nvPr/>
          </p:nvSpPr>
          <p:spPr>
            <a:xfrm>
              <a:off x="1143000" y="3399480"/>
              <a:ext cx="243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62040" y="2057040"/>
              <a:ext cx="0" cy="16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64960" y="2815560"/>
              <a:ext cx="87840" cy="87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84040" y="2225160"/>
              <a:ext cx="87120" cy="87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11040" y="2850480"/>
              <a:ext cx="91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018960" y="231228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660320" y="2902680"/>
                  <a:ext cx="8103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075120" y="2057400"/>
                  <a:ext cx="100620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',</m:t>
                      </m:r>
                      <m:r>
                        <m:t xml:space="preserve">y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2470680" y="2815560"/>
                  <a:ext cx="279360" cy="30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3099960" y="2458800"/>
                  <a:ext cx="278640" cy="39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4095000" y="2225160"/>
                  <a:ext cx="1314360" cy="95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mr>
                        <m:mr>
                          <m:e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" name=""/>
          <p:cNvGrpSpPr/>
          <p:nvPr/>
        </p:nvGrpSpPr>
        <p:grpSpPr>
          <a:xfrm>
            <a:off x="2686680" y="3885840"/>
            <a:ext cx="5237280" cy="2786760"/>
            <a:chOff x="2686680" y="3885840"/>
            <a:chExt cx="5237280" cy="2786760"/>
          </a:xfrm>
        </p:grpSpPr>
        <p:sp>
          <p:nvSpPr>
            <p:cNvPr id="189" name=""/>
            <p:cNvSpPr/>
            <p:nvPr/>
          </p:nvSpPr>
          <p:spPr>
            <a:xfrm>
              <a:off x="3505320" y="5491440"/>
              <a:ext cx="207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62440" y="3885840"/>
              <a:ext cx="0" cy="18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86680" y="4321800"/>
              <a:ext cx="2351520" cy="235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3" y="707"/>
                  </a:moveTo>
                  <a:arcTo wR="10800" hR="10800" stAng="-4149372" swAng="27187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3" y="707"/>
                  </a:moveTo>
                  <a:arcTo wR="10800" hR="10800" stAng="-4149372" swAng="271870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20840" y="502668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02280" y="434448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862440" y="4914000"/>
              <a:ext cx="1457280" cy="58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862440" y="4046400"/>
              <a:ext cx="488880" cy="145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920840" y="5026680"/>
                  <a:ext cx="691200" cy="38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295160" y="4016880"/>
                  <a:ext cx="857880" cy="38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',</m:t>
                      </m:r>
                      <m:r>
                        <m:t xml:space="preserve">y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4461840" y="4580280"/>
                  <a:ext cx="2376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5612040" y="4213440"/>
                  <a:ext cx="23119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mr>
                        <m:mr>
                          <m:e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1219320" y="38088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tion Examples of a plane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5800" y="35053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5715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438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90720" y="4343400"/>
                <a:ext cx="70102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</m:mr>
                    </m:m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143000" y="4572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tion Matrices for a plane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910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76520" y="2286000"/>
                <a:ext cx="441936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mr>
                    </m:m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905120" y="6095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 and Reflection are also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7360" y="20574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39625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990720" y="2438280"/>
            <a:ext cx="7847280" cy="1851480"/>
            <a:chOff x="990720" y="2438280"/>
            <a:chExt cx="7847280" cy="1851480"/>
          </a:xfrm>
        </p:grpSpPr>
        <p:grpSp>
          <p:nvGrpSpPr>
            <p:cNvPr id="212" name=""/>
            <p:cNvGrpSpPr/>
            <p:nvPr/>
          </p:nvGrpSpPr>
          <p:grpSpPr>
            <a:xfrm>
              <a:off x="2572200" y="2438280"/>
              <a:ext cx="3013560" cy="1851480"/>
              <a:chOff x="2572200" y="2438280"/>
              <a:chExt cx="3013560" cy="1851480"/>
            </a:xfrm>
          </p:grpSpPr>
          <p:sp>
            <p:nvSpPr>
              <p:cNvPr id="213" name=""/>
              <p:cNvSpPr/>
              <p:nvPr/>
            </p:nvSpPr>
            <p:spPr>
              <a:xfrm>
                <a:off x="3798000" y="3840480"/>
                <a:ext cx="71280" cy="72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51840" y="335700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35800" y="3868920"/>
                <a:ext cx="75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580280" y="3427920"/>
                <a:ext cx="0" cy="44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7" name=""/>
                  <p:cNvSpPr txBox="1"/>
                  <p:nvPr/>
                </p:nvSpPr>
                <p:spPr>
                  <a:xfrm>
                    <a:off x="3385440" y="3900600"/>
                    <a:ext cx="82512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4623120" y="3208320"/>
                    <a:ext cx="962640" cy="38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4130640" y="3840480"/>
                    <a:ext cx="229320" cy="25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0" name=""/>
                  <p:cNvSpPr txBox="1"/>
                  <p:nvPr/>
                </p:nvSpPr>
                <p:spPr>
                  <a:xfrm>
                    <a:off x="4645800" y="3548160"/>
                    <a:ext cx="229320" cy="32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1" name=""/>
              <p:cNvSpPr/>
              <p:nvPr/>
            </p:nvSpPr>
            <p:spPr>
              <a:xfrm>
                <a:off x="3173760" y="326556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27240" y="27820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10840" y="3294000"/>
                <a:ext cx="75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3956040" y="2853000"/>
                <a:ext cx="0" cy="44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5" name=""/>
                  <p:cNvSpPr txBox="1"/>
                  <p:nvPr/>
                </p:nvSpPr>
                <p:spPr>
                  <a:xfrm>
                    <a:off x="2572200" y="2845080"/>
                    <a:ext cx="893880" cy="38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6" name=""/>
                  <p:cNvSpPr txBox="1"/>
                  <p:nvPr/>
                </p:nvSpPr>
                <p:spPr>
                  <a:xfrm>
                    <a:off x="4035960" y="2438280"/>
                    <a:ext cx="103140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7" name=""/>
                  <p:cNvSpPr txBox="1"/>
                  <p:nvPr/>
                </p:nvSpPr>
                <p:spPr>
                  <a:xfrm>
                    <a:off x="3505680" y="3265560"/>
                    <a:ext cx="229320" cy="25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8" name=""/>
                  <p:cNvSpPr txBox="1"/>
                  <p:nvPr/>
                </p:nvSpPr>
                <p:spPr>
                  <a:xfrm>
                    <a:off x="4021560" y="2973600"/>
                    <a:ext cx="229320" cy="31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9" name=""/>
              <p:cNvSpPr/>
              <p:nvPr/>
            </p:nvSpPr>
            <p:spPr>
              <a:xfrm>
                <a:off x="3207960" y="3294000"/>
                <a:ext cx="627480" cy="57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90720" y="2844360"/>
              <a:ext cx="1638000" cy="1445040"/>
              <a:chOff x="990720" y="2844360"/>
              <a:chExt cx="1638000" cy="1445040"/>
            </a:xfrm>
          </p:grpSpPr>
          <p:sp>
            <p:nvSpPr>
              <p:cNvPr id="231" name=""/>
              <p:cNvSpPr/>
              <p:nvPr/>
            </p:nvSpPr>
            <p:spPr>
              <a:xfrm>
                <a:off x="2216520" y="38404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2" name=""/>
                  <p:cNvSpPr txBox="1"/>
                  <p:nvPr/>
                </p:nvSpPr>
                <p:spPr>
                  <a:xfrm>
                    <a:off x="1803960" y="3900240"/>
                    <a:ext cx="82476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3" name=""/>
              <p:cNvSpPr/>
              <p:nvPr/>
            </p:nvSpPr>
            <p:spPr>
              <a:xfrm>
                <a:off x="1592280" y="3264840"/>
                <a:ext cx="71280" cy="72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990720" y="2844360"/>
                    <a:ext cx="89388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5" name=""/>
              <p:cNvSpPr/>
              <p:nvPr/>
            </p:nvSpPr>
            <p:spPr>
              <a:xfrm>
                <a:off x="1626480" y="3293280"/>
                <a:ext cx="626760" cy="57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824440" y="2438280"/>
              <a:ext cx="3013560" cy="1851480"/>
              <a:chOff x="5824440" y="2438280"/>
              <a:chExt cx="3013560" cy="1851480"/>
            </a:xfrm>
          </p:grpSpPr>
          <p:sp>
            <p:nvSpPr>
              <p:cNvPr id="237" name=""/>
              <p:cNvSpPr/>
              <p:nvPr/>
            </p:nvSpPr>
            <p:spPr>
              <a:xfrm>
                <a:off x="7050240" y="38408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04080" y="3356640"/>
                <a:ext cx="71280" cy="72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6637680" y="3900600"/>
                    <a:ext cx="82512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7875360" y="3207960"/>
                    <a:ext cx="96264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>
                <a:off x="6426000" y="3265200"/>
                <a:ext cx="71280" cy="72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79480" y="278136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824440" y="2844360"/>
                    <a:ext cx="89388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7288200" y="2438280"/>
                    <a:ext cx="103140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5" name=""/>
              <p:cNvSpPr/>
              <p:nvPr/>
            </p:nvSpPr>
            <p:spPr>
              <a:xfrm>
                <a:off x="6460200" y="3293640"/>
                <a:ext cx="627480" cy="57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16560" y="2824200"/>
                <a:ext cx="627480" cy="57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"/>
          <p:cNvSpPr/>
          <p:nvPr/>
        </p:nvSpPr>
        <p:spPr>
          <a:xfrm>
            <a:off x="1676520" y="38088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ranslation (move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f the line segm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4572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st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4572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st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447920" y="38088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ranslation (move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f the tria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-2523240" y="1796400"/>
            <a:ext cx="11132280" cy="6453000"/>
            <a:chOff x="-2523240" y="1796400"/>
            <a:chExt cx="11132280" cy="6453000"/>
          </a:xfrm>
        </p:grpSpPr>
        <p:grpSp>
          <p:nvGrpSpPr>
            <p:cNvPr id="252" name=""/>
            <p:cNvGrpSpPr/>
            <p:nvPr/>
          </p:nvGrpSpPr>
          <p:grpSpPr>
            <a:xfrm>
              <a:off x="2191680" y="1828800"/>
              <a:ext cx="6417360" cy="6420600"/>
              <a:chOff x="2191680" y="1828800"/>
              <a:chExt cx="6417360" cy="642060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2191680" y="1828800"/>
                <a:ext cx="6417360" cy="6420600"/>
                <a:chOff x="2191680" y="1828800"/>
                <a:chExt cx="6417360" cy="642060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5171400" y="2002680"/>
                  <a:ext cx="3437640" cy="3148200"/>
                  <a:chOff x="5171400" y="2002680"/>
                  <a:chExt cx="3437640" cy="3148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5171400" y="5036400"/>
                    <a:ext cx="252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5400720" y="2857680"/>
                    <a:ext cx="0" cy="2293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8036280" y="3889800"/>
                    <a:ext cx="572760" cy="917280"/>
                  </a:xfrm>
                  <a:prstGeom prst="rtTriangl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9009800">
                    <a:off x="6773040" y="2074320"/>
                    <a:ext cx="573120" cy="916920"/>
                  </a:xfrm>
                  <a:prstGeom prst="rtTriangl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>
                  <a:off x="2765160" y="2401920"/>
                  <a:ext cx="5270400" cy="527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535480" y="2172600"/>
                  <a:ext cx="5729760" cy="5733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191680" y="1828800"/>
                  <a:ext cx="6417360" cy="642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5630040" y="5268960"/>
                <a:ext cx="2865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"/>
                  </a:rPr>
                  <a:t>Connect all the vertices in or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02800" y="4351680"/>
                <a:ext cx="1719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"/>
                  </a:rPr>
                  <a:t>Original triangl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30040" y="2975400"/>
                <a:ext cx="1719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"/>
                  </a:rPr>
                  <a:t>Rotated triangl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-2523240" y="1796400"/>
              <a:ext cx="7450560" cy="6423840"/>
              <a:chOff x="-2523240" y="1796400"/>
              <a:chExt cx="7450560" cy="642384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-2523240" y="1796400"/>
                <a:ext cx="6418800" cy="6423840"/>
                <a:chOff x="-2523240" y="1796400"/>
                <a:chExt cx="6418800" cy="64238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57200" y="5000760"/>
                  <a:ext cx="252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686160" y="2822400"/>
                  <a:ext cx="0" cy="229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322800" y="3854520"/>
                  <a:ext cx="572760" cy="916920"/>
                </a:xfrm>
                <a:prstGeom prst="rtTriangl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-1950840" y="2369880"/>
                  <a:ext cx="5273640" cy="527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44" y="2790"/>
                      </a:moveTo>
                      <a:arcTo wR="10800" hR="10800" stAng="-2872399" swAng="25650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44" y="2790"/>
                      </a:moveTo>
                      <a:arcTo wR="10800" hR="10800" stAng="-2872399" swAng="256509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-2178720" y="2141280"/>
                  <a:ext cx="5729760" cy="5733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259" y="963"/>
                      </a:moveTo>
                      <a:arcTo wR="10800" hR="10800" stAng="-3936922" swAng="25304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259" y="963"/>
                      </a:moveTo>
                      <a:arcTo wR="10800" hR="10800" stAng="-3936922" swAng="2530416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-2523240" y="1796400"/>
                  <a:ext cx="6418440" cy="642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194" y="2928"/>
                      </a:moveTo>
                      <a:arcTo wR="10800" hR="10800" stAng="-2807702" swAng="25397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194" y="2928"/>
                      </a:moveTo>
                      <a:arcTo wR="10800" hR="10800" stAng="-2807702" swAng="25397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808640" y="2344680"/>
                  <a:ext cx="59400" cy="59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417400" y="2991960"/>
                  <a:ext cx="59760" cy="59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30320" y="2612160"/>
                  <a:ext cx="59760" cy="59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flipV="1">
                <a:off x="686160" y="4767120"/>
                <a:ext cx="262692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84000" y="4767120"/>
                <a:ext cx="321192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84000" y="3864240"/>
                <a:ext cx="2638800" cy="113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684000" y="3023280"/>
                <a:ext cx="1757160" cy="19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86160" y="2638800"/>
                <a:ext cx="2175840" cy="236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86160" y="2372760"/>
                <a:ext cx="1151280" cy="262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01000" y="5096520"/>
                <a:ext cx="240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"/>
                  </a:rPr>
                  <a:t>Rotate all the vert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64160" y="4752360"/>
                <a:ext cx="206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"/>
                  </a:rPr>
                  <a:t>Original triangl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7720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2438280"/>
                <a:ext cx="31989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800600" y="2362320"/>
                <a:ext cx="23367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{} ##
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49092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048120" y="3657600"/>
                <a:ext cx="43164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{} ##
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1295280" y="8380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omposition of trans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xample, rotati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nd trans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80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295280" y="4876920"/>
                <a:ext cx="88920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3052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514600" y="4876920"/>
                <a:ext cx="106524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{} ##
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9880" y="4876920"/>
                <a:ext cx="1702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410080" y="4876920"/>
                <a:ext cx="2640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73392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819520" y="6248520"/>
                <a:ext cx="335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}} =T rSub { size 8{1} }  \( T rSub { size 8{2} }  {underline  {x}}  \) =T rSub { size 8{1} } T rSub { size 8{2} }  {underline  {x}} = \( T rSub { size 8{1} } T rSub { size 8{2} }  \)  {underline  {x}} } {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0" y="2209680"/>
            <a:ext cx="306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ypedef 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loat m[3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 matrix2D_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ypedef 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loat v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 vector2D_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38088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 Samples in 2D C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64040" y="2209680"/>
            <a:ext cx="559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trix2D_t createIdentity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trix2D_t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 i,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(i=0;i&lt;3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(j=0;j&lt;3;j++) u.m[i][j]=0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.m[i][i]=1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turn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38088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unction example in 2D C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76520" y="2362320"/>
            <a:ext cx="647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 Fields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Layer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G Sampl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The Application of the third order Spline Curve for Satin embroid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838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22360" y="2209680"/>
            <a:ext cx="816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trix2D_t operator * (matrix2D_t a, matrix2D_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trix2D_t c;//c=a*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 i,j,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(i=0;i&lt;3;i++) for (j=0;j&lt;3;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.m[i][j]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(k=0;k&lt;3;k++) c.m[i][j]+=a.m[i][k]*b.m[k][j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turn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914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perator example in 2D C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38080" y="228600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ector2D_t operator * (matrix2D_t a, vector2D_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ector2D_t c;//c=a*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 i,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(i=0;i&lt;3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.v[i]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or (j=0;j&lt;3;j++) c.v[i]+=a.m[i][j]*b.v[j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turn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9144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perator example in 2D C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14400" y="304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3) Calculation of the coordinates of the points in 3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"/>
          </p:cNvPr>
          <p:cNvSpPr/>
          <p:nvPr/>
        </p:nvSpPr>
        <p:spPr>
          <a:xfrm>
            <a:off x="914400" y="415296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914400" y="5105520"/>
            <a:ext cx="1523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3"/>
          </p:cNvPr>
          <p:cNvSpPr/>
          <p:nvPr/>
        </p:nvSpPr>
        <p:spPr>
          <a:xfrm>
            <a:off x="914400" y="320040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3200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lting Transformation, Parallel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4114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, Translation, Sc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51055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, Viewing Transformation, Normal Lin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057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3.1) Rotation, Translation, Scaling,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rojection, Viewing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038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219320" y="2514600"/>
                <a:ext cx="629748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</m:mr>
                    </m:m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438280" y="4572000"/>
                <a:ext cx="39085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e>
                      </m:mr>
                    </m:m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062720" y="304920"/>
            <a:ext cx="7671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tion Matri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ion and 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14400" y="3808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3) Calculation of the coordinates of the points in 3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1"/>
          </p:cNvPr>
          <p:cNvSpPr/>
          <p:nvPr/>
        </p:nvSpPr>
        <p:spPr>
          <a:xfrm>
            <a:off x="685800" y="274320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2743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fram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3962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ing visible faces from hidden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5257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pectiv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057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3.2) Cub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/>
          </p:cNvPr>
          <p:cNvSpPr/>
          <p:nvPr/>
        </p:nvSpPr>
        <p:spPr>
          <a:xfrm>
            <a:off x="685800" y="335268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/>
          </p:cNvPr>
          <p:cNvSpPr/>
          <p:nvPr/>
        </p:nvSpPr>
        <p:spPr>
          <a:xfrm>
            <a:off x="685800" y="396252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rId4"/>
          </p:cNvPr>
          <p:cNvSpPr/>
          <p:nvPr/>
        </p:nvSpPr>
        <p:spPr>
          <a:xfrm>
            <a:off x="685800" y="457200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5"/>
          </p:cNvPr>
          <p:cNvSpPr/>
          <p:nvPr/>
        </p:nvSpPr>
        <p:spPr>
          <a:xfrm>
            <a:off x="685800" y="518148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6"/>
          </p:cNvPr>
          <p:cNvSpPr/>
          <p:nvPr/>
        </p:nvSpPr>
        <p:spPr>
          <a:xfrm>
            <a:off x="685800" y="5791320"/>
            <a:ext cx="12193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3352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hidden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ing visible faces with uniform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g Model flat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2209680" y="1981080"/>
            <a:ext cx="5753160" cy="4397760"/>
            <a:chOff x="2209680" y="1981080"/>
            <a:chExt cx="5753160" cy="4397760"/>
          </a:xfrm>
        </p:grpSpPr>
        <p:grpSp>
          <p:nvGrpSpPr>
            <p:cNvPr id="335" name=""/>
            <p:cNvGrpSpPr/>
            <p:nvPr/>
          </p:nvGrpSpPr>
          <p:grpSpPr>
            <a:xfrm>
              <a:off x="2209680" y="1981080"/>
              <a:ext cx="1828800" cy="2578320"/>
              <a:chOff x="2209680" y="1981080"/>
              <a:chExt cx="1828800" cy="2578320"/>
            </a:xfrm>
          </p:grpSpPr>
          <p:sp>
            <p:nvSpPr>
              <p:cNvPr id="336" name=""/>
              <p:cNvSpPr/>
              <p:nvPr/>
            </p:nvSpPr>
            <p:spPr>
              <a:xfrm>
                <a:off x="2438280" y="286560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9680" y="317016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3047760" y="233172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61960" y="2408400"/>
                <a:ext cx="144792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24080" y="263700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04960" y="2332080"/>
                <a:ext cx="30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66880" y="2332080"/>
                <a:ext cx="396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209680" y="278928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09680" y="355140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581280" y="332280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90560" y="324648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76360" y="362736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438280" y="2865600"/>
                <a:ext cx="838080" cy="838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438280" y="2536560"/>
                <a:ext cx="328680" cy="32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3276360" y="2536560"/>
                <a:ext cx="328680" cy="32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276360" y="3374640"/>
                <a:ext cx="328680" cy="32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66960" y="2536920"/>
                <a:ext cx="83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01800" y="253692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361960" y="4313160"/>
                <a:ext cx="1143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"/>
                  </a:rPr>
                  <a:t>Vertex Numb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33560" y="2895480"/>
                <a:ext cx="30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19160" y="1981080"/>
                <a:ext cx="30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38280" y="3809880"/>
                <a:ext cx="30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410000" y="1981080"/>
              <a:ext cx="2133000" cy="2532240"/>
              <a:chOff x="4410000" y="1981080"/>
              <a:chExt cx="2133000" cy="2532240"/>
            </a:xfrm>
          </p:grpSpPr>
          <p:sp>
            <p:nvSpPr>
              <p:cNvPr id="359" name=""/>
              <p:cNvSpPr/>
              <p:nvPr/>
            </p:nvSpPr>
            <p:spPr>
              <a:xfrm>
                <a:off x="49431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14560" y="3200400"/>
                <a:ext cx="175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5552640" y="236160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66480" y="2438280"/>
                <a:ext cx="144756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00360" y="205740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38440" y="28191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33880" y="1981080"/>
                <a:ext cx="39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10000" y="28954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52640" y="396216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0000" y="365760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4040" y="3733560"/>
                <a:ext cx="304560" cy="457200"/>
              </a:xfrm>
              <a:prstGeom prst="upArrow">
                <a:avLst>
                  <a:gd name="adj1" fmla="val 50000"/>
                  <a:gd name="adj2" fmla="val 375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10000" y="3047760"/>
                <a:ext cx="533160" cy="304920"/>
              </a:xfrm>
              <a:prstGeom prst="rightArrow">
                <a:avLst>
                  <a:gd name="adj1" fmla="val 50000"/>
                  <a:gd name="adj2" fmla="val 4371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864600">
                <a:off x="5933880" y="2209320"/>
                <a:ext cx="533160" cy="228240"/>
              </a:xfrm>
              <a:prstGeom prst="leftArrow">
                <a:avLst>
                  <a:gd name="adj1" fmla="val 50000"/>
                  <a:gd name="adj2" fmla="val 5839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43160" y="2895480"/>
                <a:ext cx="837720" cy="838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064400">
                <a:off x="4638240" y="3504600"/>
                <a:ext cx="609480" cy="228600"/>
              </a:xfrm>
              <a:prstGeom prst="rightArrow">
                <a:avLst>
                  <a:gd name="adj1" fmla="val 50000"/>
                  <a:gd name="adj2" fmla="val 6665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943160" y="2566440"/>
                <a:ext cx="328320" cy="32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5781240" y="2566440"/>
                <a:ext cx="328320" cy="32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5781240" y="3405240"/>
                <a:ext cx="328320" cy="32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271840" y="2566800"/>
                <a:ext cx="83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00360" y="2361960"/>
                <a:ext cx="304560" cy="381240"/>
              </a:xfrm>
              <a:prstGeom prst="downArrow">
                <a:avLst>
                  <a:gd name="adj1" fmla="val 50000"/>
                  <a:gd name="adj2" fmla="val 3129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09920" y="2566800"/>
                <a:ext cx="0" cy="83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09840" y="2971800"/>
                <a:ext cx="533160" cy="304560"/>
              </a:xfrm>
              <a:prstGeom prst="leftArrow">
                <a:avLst>
                  <a:gd name="adj1" fmla="val 50000"/>
                  <a:gd name="adj2" fmla="val 4376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95440" y="4267080"/>
                <a:ext cx="114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"/>
                  </a:rPr>
                  <a:t>Face Numb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209680" y="4724640"/>
              <a:ext cx="1904400" cy="1388520"/>
              <a:chOff x="2209680" y="4724640"/>
              <a:chExt cx="1904400" cy="1388520"/>
            </a:xfrm>
          </p:grpSpPr>
          <p:sp>
            <p:nvSpPr>
              <p:cNvPr id="383" name=""/>
              <p:cNvSpPr/>
              <p:nvPr/>
            </p:nvSpPr>
            <p:spPr>
              <a:xfrm>
                <a:off x="2514240" y="4846680"/>
                <a:ext cx="1142640" cy="114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120" y="530388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66520" y="5014800"/>
                <a:ext cx="761760" cy="74556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0 h 745560"/>
                  <a:gd name="textAreaBottom" fmla="*/ 745920 h 74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4820517"/>
                    <a:lnTo>
                      <a:pt x="6582" y="20742"/>
                    </a:lnTo>
                    <a:arcTo wR="10800" hR="10800" stAng="6779483" swAng="14820517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57240" y="586692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7240" y="472464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09680" y="47703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5640" y="586692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010040" y="4609800"/>
              <a:ext cx="182880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Vertex l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Vertex coordin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0(100,100,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1(100,100,-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2(-100,100,-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3(-100,100,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4(100,-100,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5(100,-100,-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6(-100,-100,-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7(-100,-100,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76840" y="4584240"/>
              <a:ext cx="22860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Face l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Face Vertices Numb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00,1,2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10,4,5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21,5,6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32,6,7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43,7,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57,6,5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</a:rPr>
                <a:t>in Counter Clockwise or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523880" y="45720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ata structure model for the cub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304920" y="2057400"/>
            <a:ext cx="6156000" cy="3380760"/>
            <a:chOff x="304920" y="2057400"/>
            <a:chExt cx="6156000" cy="3380760"/>
          </a:xfrm>
        </p:grpSpPr>
        <p:sp>
          <p:nvSpPr>
            <p:cNvPr id="394" name=""/>
            <p:cNvSpPr/>
            <p:nvPr/>
          </p:nvSpPr>
          <p:spPr>
            <a:xfrm>
              <a:off x="730440" y="2422080"/>
              <a:ext cx="4632480" cy="2676240"/>
            </a:xfrm>
            <a:custGeom>
              <a:avLst/>
              <a:gdLst/>
              <a:ahLst/>
              <a:rect l="l" t="t" r="r" b="b"/>
              <a:pathLst>
                <a:path w="1824" h="1056">
                  <a:moveTo>
                    <a:pt x="240" y="1056"/>
                  </a:moveTo>
                  <a:lnTo>
                    <a:pt x="1392" y="1056"/>
                  </a:lnTo>
                  <a:lnTo>
                    <a:pt x="1824" y="240"/>
                  </a:lnTo>
                  <a:lnTo>
                    <a:pt x="768" y="0"/>
                  </a:lnTo>
                  <a:lnTo>
                    <a:pt x="0" y="480"/>
                  </a:lnTo>
                  <a:lnTo>
                    <a:pt x="240" y="10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74520" y="49784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88040" y="49784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760" y="2910240"/>
              <a:ext cx="9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27160" y="20574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33066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entury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40280" y="5098320"/>
              <a:ext cx="292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340280" y="3030480"/>
              <a:ext cx="4022640" cy="20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340280" y="3760560"/>
              <a:ext cx="0" cy="13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3200760" y="4829400"/>
                  <a:ext cx="30456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2743560" y="3916080"/>
                  <a:ext cx="27936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"/>
            <p:cNvSpPr/>
            <p:nvPr/>
          </p:nvSpPr>
          <p:spPr>
            <a:xfrm>
              <a:off x="1343160" y="4829400"/>
              <a:ext cx="257040" cy="23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9758400">
              <a:off x="1295640" y="4752720"/>
              <a:ext cx="304560" cy="304200"/>
            </a:xfrm>
            <a:prstGeom prst="parallelogram">
              <a:avLst>
                <a:gd name="adj" fmla="val 252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1371960" y="3610800"/>
                  <a:ext cx="66024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×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8" name=""/>
          <p:cNvGrpSpPr/>
          <p:nvPr/>
        </p:nvGrpSpPr>
        <p:grpSpPr>
          <a:xfrm>
            <a:off x="4533840" y="4648320"/>
            <a:ext cx="4609080" cy="1840680"/>
            <a:chOff x="4533840" y="4648320"/>
            <a:chExt cx="4609080" cy="1840680"/>
          </a:xfrm>
        </p:grpSpPr>
        <p:grpSp>
          <p:nvGrpSpPr>
            <p:cNvPr id="409" name=""/>
            <p:cNvGrpSpPr/>
            <p:nvPr/>
          </p:nvGrpSpPr>
          <p:grpSpPr>
            <a:xfrm>
              <a:off x="4533840" y="4648320"/>
              <a:ext cx="4609080" cy="1795680"/>
              <a:chOff x="4533840" y="4648320"/>
              <a:chExt cx="4609080" cy="1795680"/>
            </a:xfrm>
          </p:grpSpPr>
          <p:sp>
            <p:nvSpPr>
              <p:cNvPr id="410" name=""/>
              <p:cNvSpPr/>
              <p:nvPr/>
            </p:nvSpPr>
            <p:spPr>
              <a:xfrm>
                <a:off x="4533840" y="5013000"/>
                <a:ext cx="2476080" cy="143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812920" y="4648320"/>
                <a:ext cx="62532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12920" y="573048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33840" y="5402880"/>
                <a:ext cx="118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"/>
                  </a:rPr>
                  <a:t>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24120" y="4648320"/>
                <a:ext cx="232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entury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entury"/>
                  </a:rPr>
                  <a:t> Normal 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19480" y="5609520"/>
                <a:ext cx="232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entury"/>
                  </a:rPr>
                  <a:t>V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entury"/>
                  </a:rPr>
                  <a:t> View 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010120" y="4950720"/>
              <a:ext cx="1795320" cy="1538280"/>
              <a:chOff x="5010120" y="4950720"/>
              <a:chExt cx="1795320" cy="1538280"/>
            </a:xfrm>
          </p:grpSpPr>
          <p:sp>
            <p:nvSpPr>
              <p:cNvPr id="417" name=""/>
              <p:cNvSpPr/>
              <p:nvPr/>
            </p:nvSpPr>
            <p:spPr>
              <a:xfrm>
                <a:off x="5010120" y="4950720"/>
                <a:ext cx="1541880" cy="153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4" y="1856"/>
                    </a:moveTo>
                    <a:arcTo wR="10800" hR="10800" stAng="-3354316" swAng="33543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4" y="1856"/>
                    </a:moveTo>
                    <a:arcTo wR="10800" hR="10800" stAng="-3354316" swAng="335431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8" name=""/>
                  <p:cNvSpPr txBox="1"/>
                  <p:nvPr/>
                </p:nvSpPr>
                <p:spPr>
                  <a:xfrm>
                    <a:off x="6577560" y="5152320"/>
                    <a:ext cx="227880" cy="30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γ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19" name=""/>
          <p:cNvSpPr/>
          <p:nvPr/>
        </p:nvSpPr>
        <p:spPr>
          <a:xfrm>
            <a:off x="914400" y="10666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isible condition of the fa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24280" y="2133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1600200" y="2666880"/>
            <a:ext cx="6247800" cy="4524480"/>
            <a:chOff x="1600200" y="2666880"/>
            <a:chExt cx="6247800" cy="4524480"/>
          </a:xfrm>
        </p:grpSpPr>
        <p:sp>
          <p:nvSpPr>
            <p:cNvPr id="422" name=""/>
            <p:cNvSpPr/>
            <p:nvPr/>
          </p:nvSpPr>
          <p:spPr>
            <a:xfrm>
              <a:off x="2209680" y="3123720"/>
              <a:ext cx="609480" cy="609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276360" y="4190400"/>
              <a:ext cx="152316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1047400">
              <a:off x="3276360" y="4647960"/>
              <a:ext cx="3656880" cy="1371240"/>
            </a:xfrm>
            <a:prstGeom prst="parallelogram">
              <a:avLst>
                <a:gd name="adj" fmla="val 2678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342680" y="3427920"/>
              <a:ext cx="4568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799880" y="3733200"/>
              <a:ext cx="1066680" cy="16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4799880" y="4190400"/>
              <a:ext cx="137124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40160" y="4052160"/>
              <a:ext cx="2745000" cy="274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86" y="4029"/>
                  </a:moveTo>
                  <a:arcTo wR="10800" hR="10800" stAng="-8470625" swAng="2265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86" y="4029"/>
                  </a:moveTo>
                  <a:arcTo wR="10800" hR="10800" stAng="-8470625" swAng="226534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30800" y="4047480"/>
              <a:ext cx="2741040" cy="27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92" y="272"/>
                  </a:moveTo>
                  <a:arcTo wR="10800" hR="10800" stAng="-6172900" swAng="272951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92" y="272"/>
                  </a:moveTo>
                  <a:arcTo wR="10800" hR="10800" stAng="-6172900" swAng="2729518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63640" y="3944160"/>
              <a:ext cx="2472120" cy="32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66" y="2149"/>
                  </a:moveTo>
                  <a:arcTo wR="10800" hR="10800" stAng="-3193470" swAng="8854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66" y="2149"/>
                  </a:moveTo>
                  <a:arcTo wR="10800" hR="10800" stAng="-3193470" swAng="8854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00200" y="266688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Illumin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3428640" y="3885480"/>
                  <a:ext cx="27900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4038480" y="3733560"/>
                  <a:ext cx="27900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5409720" y="3733560"/>
                  <a:ext cx="30420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019560" y="3885480"/>
                  <a:ext cx="304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36" name=""/>
            <p:cNvGrpSpPr/>
            <p:nvPr/>
          </p:nvGrpSpPr>
          <p:grpSpPr>
            <a:xfrm>
              <a:off x="6350040" y="2818800"/>
              <a:ext cx="1293840" cy="1133280"/>
              <a:chOff x="6350040" y="2818800"/>
              <a:chExt cx="1293840" cy="1133280"/>
            </a:xfrm>
          </p:grpSpPr>
          <p:sp>
            <p:nvSpPr>
              <p:cNvPr id="437" name=""/>
              <p:cNvSpPr/>
              <p:nvPr/>
            </p:nvSpPr>
            <p:spPr>
              <a:xfrm rot="19411800">
                <a:off x="6344280" y="3369600"/>
                <a:ext cx="1027800" cy="30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 rot="19411200">
                <a:off x="6338880" y="3370320"/>
                <a:ext cx="10332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9411800">
                <a:off x="6828840" y="2969280"/>
                <a:ext cx="705240" cy="600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6" y="16641"/>
                    </a:moveTo>
                    <a:arcTo wR="10800" hR="10800" stAng="8835674" swAng="36482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6" y="16641"/>
                    </a:moveTo>
                    <a:arcTo wR="10800" hR="10800" stAng="8835674" swAng="36482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411800">
                <a:off x="6879960" y="3355560"/>
                <a:ext cx="149040" cy="19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6601320" y="3333240"/>
                <a:ext cx="21240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6557760" y="3365280"/>
                <a:ext cx="21276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6933960" y="342828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Ey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62320" y="4190760"/>
              <a:ext cx="152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Light 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2819160"/>
              <a:ext cx="22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Normal Vector to the 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05160" y="2971080"/>
              <a:ext cx="213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Reflection 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1480" y="3733560"/>
              <a:ext cx="137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View 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43040" y="525708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4038480" y="4342680"/>
                  <a:ext cx="25380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4952520" y="4190760"/>
                  <a:ext cx="253800" cy="25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5714280" y="4647960"/>
                  <a:ext cx="27900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2" name=""/>
          <p:cNvSpPr/>
          <p:nvPr/>
        </p:nvSpPr>
        <p:spPr>
          <a:xfrm>
            <a:off x="1523880" y="838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Lighting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828800" y="2057400"/>
            <a:ext cx="6248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ypedef 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 NumberofVertices; //in th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ort int pnt[3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 face_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ypedef 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 NumberofVertices; //of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oint3D_t pnt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 NumberofFaces; //of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ace_t fc[3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} object3D_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8088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 Samples in 3D C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3049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3) Calculation of the coordinates of the points in 3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1"/>
          </p:cNvPr>
          <p:cNvSpPr/>
          <p:nvPr/>
        </p:nvSpPr>
        <p:spPr>
          <a:xfrm>
            <a:off x="1143000" y="29718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ecahe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2057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3.3) Polyhedron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rId2"/>
          </p:cNvPr>
          <p:cNvSpPr/>
          <p:nvPr/>
        </p:nvSpPr>
        <p:spPr>
          <a:xfrm>
            <a:off x="1143000" y="38862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osahe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3"/>
          </p:cNvPr>
          <p:cNvSpPr/>
          <p:nvPr/>
        </p:nvSpPr>
        <p:spPr>
          <a:xfrm>
            <a:off x="1143000" y="52578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he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00600" y="487692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drawing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-Sort of th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rId4"/>
          </p:cNvPr>
          <p:cNvSpPr/>
          <p:nvPr/>
        </p:nvSpPr>
        <p:spPr>
          <a:xfrm>
            <a:off x="1143000" y="579132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hedron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33800" y="685800"/>
            <a:ext cx="872280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elds of Computer Graph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raster scanning display units (pixel matrix display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crystal display units, plasma display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lectronics 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computer graphics applications (computer graphics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simulation tools with CG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uter 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CG pictures, CG movies with C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effects in mo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aphic designer, building/resident designers, clothes desig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with CG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gineers, students and scho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1752480" y="3048120"/>
            <a:ext cx="5581800" cy="2121120"/>
            <a:chOff x="1752480" y="3048120"/>
            <a:chExt cx="5581800" cy="2121120"/>
          </a:xfrm>
        </p:grpSpPr>
        <p:grpSp>
          <p:nvGrpSpPr>
            <p:cNvPr id="463" name=""/>
            <p:cNvGrpSpPr/>
            <p:nvPr/>
          </p:nvGrpSpPr>
          <p:grpSpPr>
            <a:xfrm>
              <a:off x="1752480" y="3048120"/>
              <a:ext cx="3048120" cy="2121120"/>
              <a:chOff x="1752480" y="3048120"/>
              <a:chExt cx="3048120" cy="2121120"/>
            </a:xfrm>
          </p:grpSpPr>
          <p:pic>
            <p:nvPicPr>
              <p:cNvPr id="464" name="graphics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3170520"/>
                <a:ext cx="3048120" cy="18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3200400" y="33991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71800" y="39326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76720" y="3688200"/>
                <a:ext cx="45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00440" y="345960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14840" y="327672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52680" y="304812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00440" y="317052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29080" y="411516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33640" y="435960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390840" y="411516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19440" y="37800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62520" y="431352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560" y="381024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14600" y="37800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362320" y="365796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190600" y="411516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352680" y="44517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8120" y="492300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38520" y="475632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10000" y="4451760"/>
                <a:ext cx="3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Century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33680" y="475632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286160" y="3048120"/>
              <a:ext cx="3048120" cy="2089080"/>
              <a:chOff x="4286160" y="3048120"/>
              <a:chExt cx="3048120" cy="2089080"/>
            </a:xfrm>
          </p:grpSpPr>
          <p:pic>
            <p:nvPicPr>
              <p:cNvPr id="487" name="graphics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6160" y="3154320"/>
                <a:ext cx="3048120" cy="18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6191280" y="3535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808080"/>
                    </a:solidFill>
                    <a:latin typeface="Century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0548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808080"/>
                    </a:solidFill>
                    <a:latin typeface="Century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7240" y="41306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808080"/>
                    </a:solidFill>
                    <a:latin typeface="Century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95920" y="3946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808080"/>
                    </a:solidFill>
                    <a:latin typeface="Century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200560" y="40384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808080"/>
                    </a:solidFill>
                    <a:latin typeface="Century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695920" y="4541760"/>
                <a:ext cx="3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808080"/>
                    </a:solidFill>
                    <a:latin typeface="Century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48160" y="327672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86360" y="304812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91240" y="380988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95840" y="428148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81440" y="489096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72200" y="472428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295960" y="313848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57840" y="362592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86120" y="408312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29200" y="472428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000000"/>
                    </a:solidFill>
                    <a:latin typeface="Century"/>
                  </a:rPr>
                  <a:t>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53160" y="339876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808080"/>
                    </a:solidFill>
                    <a:latin typeface="Century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172200" y="387036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808080"/>
                    </a:solidFill>
                    <a:latin typeface="Century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10080" y="3763800"/>
                <a:ext cx="34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808080"/>
                    </a:solidFill>
                    <a:latin typeface="Century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00840" y="446544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808080"/>
                    </a:solidFill>
                    <a:latin typeface="Century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24560" y="425124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000" spc="-1" strike="noStrike">
                    <a:solidFill>
                      <a:srgbClr val="808080"/>
                    </a:solidFill>
                    <a:latin typeface="Century"/>
                  </a:rPr>
                  <a:t>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/>
          <p:cNvSpPr/>
          <p:nvPr/>
        </p:nvSpPr>
        <p:spPr>
          <a:xfrm>
            <a:off x="1600200" y="45720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ata structure model for the Dodecahed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838080" y="3808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3) Calculation of the coordinates of the points in 3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1"/>
          </p:cNvPr>
          <p:cNvSpPr/>
          <p:nvPr/>
        </p:nvSpPr>
        <p:spPr>
          <a:xfrm>
            <a:off x="1143000" y="29718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2057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3.4) Mesh Model Examples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/>
          </p:cNvPr>
          <p:cNvSpPr/>
          <p:nvPr/>
        </p:nvSpPr>
        <p:spPr>
          <a:xfrm>
            <a:off x="1143000" y="487692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43434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-sort of the faces according to the z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3"/>
          </p:cNvPr>
          <p:cNvSpPr/>
          <p:nvPr/>
        </p:nvSpPr>
        <p:spPr>
          <a:xfrm>
            <a:off x="1143000" y="373392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4"/>
          </p:cNvPr>
          <p:cNvSpPr/>
          <p:nvPr/>
        </p:nvSpPr>
        <p:spPr>
          <a:xfrm>
            <a:off x="1143000" y="57150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orus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838080" y="3808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3) Calculation of the coordinates of the points in 3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" y="2057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3.4) Mesh Model Examples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"/>
          </p:cNvPr>
          <p:cNvSpPr/>
          <p:nvPr/>
        </p:nvSpPr>
        <p:spPr>
          <a:xfrm>
            <a:off x="1143000" y="29718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us+sphe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2"/>
          </p:cNvPr>
          <p:cNvSpPr/>
          <p:nvPr/>
        </p:nvSpPr>
        <p:spPr>
          <a:xfrm>
            <a:off x="1143000" y="396252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us+sphe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28954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-sort of the faces ( with trou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3886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3"/>
          </p:cNvPr>
          <p:cNvSpPr/>
          <p:nvPr/>
        </p:nvSpPr>
        <p:spPr>
          <a:xfrm>
            <a:off x="1143000" y="563868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us+sphere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676520" y="3276720"/>
            <a:ext cx="1675800" cy="837720"/>
            <a:chOff x="1676520" y="3276720"/>
            <a:chExt cx="1675800" cy="837720"/>
          </a:xfrm>
        </p:grpSpPr>
        <p:grpSp>
          <p:nvGrpSpPr>
            <p:cNvPr id="526" name=""/>
            <p:cNvGrpSpPr/>
            <p:nvPr/>
          </p:nvGrpSpPr>
          <p:grpSpPr>
            <a:xfrm>
              <a:off x="1676520" y="3428280"/>
              <a:ext cx="1675800" cy="686160"/>
              <a:chOff x="1676520" y="3428280"/>
              <a:chExt cx="1675800" cy="686160"/>
            </a:xfrm>
          </p:grpSpPr>
          <p:sp>
            <p:nvSpPr>
              <p:cNvPr id="527" name=""/>
              <p:cNvSpPr/>
              <p:nvPr/>
            </p:nvSpPr>
            <p:spPr>
              <a:xfrm rot="16200000">
                <a:off x="2590200" y="3352320"/>
                <a:ext cx="685800" cy="838080"/>
              </a:xfrm>
              <a:prstGeom prst="parallelogram">
                <a:avLst>
                  <a:gd name="adj" fmla="val 1338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 rot="5400000">
                <a:off x="1752480" y="3351960"/>
                <a:ext cx="685800" cy="837720"/>
              </a:xfrm>
              <a:prstGeom prst="parallelogram">
                <a:avLst>
                  <a:gd name="adj" fmla="val 1338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flipV="1">
              <a:off x="1981080" y="3276720"/>
              <a:ext cx="763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2971800" y="3276720"/>
              <a:ext cx="763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105520" y="3124080"/>
            <a:ext cx="2133000" cy="1066320"/>
            <a:chOff x="5105520" y="3124080"/>
            <a:chExt cx="2133000" cy="1066320"/>
          </a:xfrm>
        </p:grpSpPr>
        <p:sp>
          <p:nvSpPr>
            <p:cNvPr id="532" name=""/>
            <p:cNvSpPr/>
            <p:nvPr/>
          </p:nvSpPr>
          <p:spPr>
            <a:xfrm flipV="1">
              <a:off x="6172200" y="31240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172200" y="3800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105520" y="3276360"/>
              <a:ext cx="1066320" cy="914040"/>
              <a:chOff x="5105520" y="3276360"/>
              <a:chExt cx="1066320" cy="914040"/>
            </a:xfrm>
          </p:grpSpPr>
          <p:sp>
            <p:nvSpPr>
              <p:cNvPr id="535" name=""/>
              <p:cNvSpPr/>
              <p:nvPr/>
            </p:nvSpPr>
            <p:spPr>
              <a:xfrm flipV="1" rot="5400000">
                <a:off x="5409720" y="3427560"/>
                <a:ext cx="685800" cy="838080"/>
              </a:xfrm>
              <a:prstGeom prst="parallelogram">
                <a:avLst>
                  <a:gd name="adj" fmla="val 1338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5181480" y="3276360"/>
                <a:ext cx="15192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5105520" y="4038120"/>
                <a:ext cx="2282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172560" y="3276360"/>
              <a:ext cx="1065960" cy="914040"/>
              <a:chOff x="6172560" y="3276360"/>
              <a:chExt cx="1065960" cy="914040"/>
            </a:xfrm>
          </p:grpSpPr>
          <p:sp>
            <p:nvSpPr>
              <p:cNvPr id="539" name=""/>
              <p:cNvSpPr/>
              <p:nvPr/>
            </p:nvSpPr>
            <p:spPr>
              <a:xfrm flipH="1" flipV="1" rot="16200000">
                <a:off x="6248160" y="3427920"/>
                <a:ext cx="685800" cy="837720"/>
              </a:xfrm>
              <a:prstGeom prst="parallelogram">
                <a:avLst>
                  <a:gd name="adj" fmla="val 1338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010640" y="3276360"/>
                <a:ext cx="15192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010280" y="4038120"/>
                <a:ext cx="2282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1059480" y="914400"/>
            <a:ext cx="755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 shading and smooth sh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5800" y="4419720"/>
            <a:ext cx="371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oth sh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1920" y="4495680"/>
            <a:ext cx="293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 sh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0360" y="2357280"/>
            <a:ext cx="27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V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666880" y="2591280"/>
            <a:ext cx="5038200" cy="2991240"/>
            <a:chOff x="2666880" y="2591280"/>
            <a:chExt cx="5038200" cy="2991240"/>
          </a:xfrm>
        </p:grpSpPr>
        <p:grpSp>
          <p:nvGrpSpPr>
            <p:cNvPr id="547" name=""/>
            <p:cNvGrpSpPr/>
            <p:nvPr/>
          </p:nvGrpSpPr>
          <p:grpSpPr>
            <a:xfrm>
              <a:off x="6208200" y="2591280"/>
              <a:ext cx="1292760" cy="1132200"/>
              <a:chOff x="6208200" y="2591280"/>
              <a:chExt cx="1292760" cy="1132200"/>
            </a:xfrm>
          </p:grpSpPr>
          <p:sp>
            <p:nvSpPr>
              <p:cNvPr id="548" name=""/>
              <p:cNvSpPr/>
              <p:nvPr/>
            </p:nvSpPr>
            <p:spPr>
              <a:xfrm rot="19411800">
                <a:off x="6202440" y="3141720"/>
                <a:ext cx="1026720" cy="30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 rot="19411200">
                <a:off x="6197040" y="3141360"/>
                <a:ext cx="10328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9411800">
                <a:off x="6687000" y="2741760"/>
                <a:ext cx="704520" cy="600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6" y="16641"/>
                    </a:moveTo>
                    <a:arcTo wR="10800" hR="10800" stAng="8835674" swAng="36482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6" y="16641"/>
                    </a:moveTo>
                    <a:arcTo wR="10800" hR="10800" stAng="8835674" swAng="36482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9411800">
                <a:off x="6737760" y="3127680"/>
                <a:ext cx="148680" cy="19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6458760" y="3105360"/>
                <a:ext cx="21240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6415560" y="3137040"/>
                <a:ext cx="21240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791400" y="3199680"/>
              <a:ext cx="9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Ey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107160" y="3983760"/>
              <a:ext cx="1760760" cy="1598760"/>
            </a:xfrm>
            <a:prstGeom prst="parallelogram">
              <a:avLst>
                <a:gd name="adj" fmla="val 2753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954600" y="3481560"/>
              <a:ext cx="1218240" cy="1379880"/>
            </a:xfrm>
            <a:prstGeom prst="parallelogram">
              <a:avLst>
                <a:gd name="adj" fmla="val 2206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67160" y="3107520"/>
              <a:ext cx="177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Fac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90360" y="3532680"/>
              <a:ext cx="177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Fac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370680" y="4294800"/>
              <a:ext cx="1360440" cy="646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731480" y="3457080"/>
              <a:ext cx="175500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776760" y="4567320"/>
              <a:ext cx="38412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2666880" y="4941720"/>
              <a:ext cx="70416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868280" y="3688200"/>
              <a:ext cx="177372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075200" y="4062960"/>
              <a:ext cx="2773080" cy="13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5836320" y="4021200"/>
                  <a:ext cx="2790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5697000" y="4557960"/>
                  <a:ext cx="279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7" name=""/>
          <p:cNvSpPr/>
          <p:nvPr/>
        </p:nvSpPr>
        <p:spPr>
          <a:xfrm>
            <a:off x="1060920" y="914400"/>
            <a:ext cx="72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-Sort (of the faces)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303120" y="1402200"/>
            <a:ext cx="8259480" cy="5443560"/>
            <a:chOff x="303120" y="1402200"/>
            <a:chExt cx="8259480" cy="5443560"/>
          </a:xfrm>
        </p:grpSpPr>
        <p:sp>
          <p:nvSpPr>
            <p:cNvPr id="569" name=""/>
            <p:cNvSpPr/>
            <p:nvPr/>
          </p:nvSpPr>
          <p:spPr>
            <a:xfrm rot="3435600">
              <a:off x="306000" y="3534120"/>
              <a:ext cx="3930840" cy="2152800"/>
            </a:xfrm>
            <a:prstGeom prst="parallelogram">
              <a:avLst>
                <a:gd name="adj" fmla="val 157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3435600">
              <a:off x="1224000" y="2976840"/>
              <a:ext cx="3930840" cy="2152800"/>
            </a:xfrm>
            <a:prstGeom prst="parallelogram">
              <a:avLst>
                <a:gd name="adj" fmla="val 157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214040" y="1402200"/>
              <a:ext cx="1164960" cy="1020240"/>
              <a:chOff x="7214040" y="1402200"/>
              <a:chExt cx="1164960" cy="1020240"/>
            </a:xfrm>
          </p:grpSpPr>
          <p:sp>
            <p:nvSpPr>
              <p:cNvPr id="572" name=""/>
              <p:cNvSpPr/>
              <p:nvPr/>
            </p:nvSpPr>
            <p:spPr>
              <a:xfrm rot="19411800">
                <a:off x="7208640" y="1898280"/>
                <a:ext cx="925200" cy="27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 rot="19411200">
                <a:off x="7203960" y="1898640"/>
                <a:ext cx="930240" cy="27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411800">
                <a:off x="7645320" y="1537560"/>
                <a:ext cx="634680" cy="54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6" y="16641"/>
                    </a:moveTo>
                    <a:arcTo wR="10800" hR="10800" stAng="8835674" swAng="36482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6" y="16641"/>
                    </a:moveTo>
                    <a:arcTo wR="10800" hR="10800" stAng="8835674" swAng="36482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411800">
                <a:off x="7691040" y="1885320"/>
                <a:ext cx="13392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7440120" y="1865160"/>
                <a:ext cx="191520" cy="2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7401240" y="1893960"/>
                <a:ext cx="191520" cy="2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7739280" y="1951200"/>
              <a:ext cx="8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Ey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44000" y="2911320"/>
              <a:ext cx="960120" cy="549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59840" y="2911320"/>
              <a:ext cx="1234800" cy="12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073320" y="2088000"/>
              <a:ext cx="4390920" cy="21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131800" y="2088000"/>
              <a:ext cx="233244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229800" y="2088000"/>
              <a:ext cx="1234800" cy="6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48000" y="4832640"/>
              <a:ext cx="34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Projection 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87160" y="3460320"/>
              <a:ext cx="68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7120" y="3322800"/>
              <a:ext cx="12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55480" y="2225520"/>
              <a:ext cx="12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255400" y="5801400"/>
              <a:ext cx="166392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1160640" y="4857480"/>
              <a:ext cx="1094040" cy="17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36640" y="583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entury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6680" y="5169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entury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000880" y="4686840"/>
              <a:ext cx="25380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301480" y="4291560"/>
              <a:ext cx="771840" cy="376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2600" y="5609880"/>
              <a:ext cx="15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"/>
                </a:rPr>
                <a:t>Z Buf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1901880" y="838080"/>
            <a:ext cx="46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-Buffer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533520" y="4572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3) Calculation of the coordinates of the points in 3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"/>
          </p:cNvPr>
          <p:cNvSpPr/>
          <p:nvPr/>
        </p:nvSpPr>
        <p:spPr>
          <a:xfrm>
            <a:off x="1143000" y="29718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3.5) Examples of OpenGL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2"/>
          </p:cNvPr>
          <p:cNvSpPr/>
          <p:nvPr/>
        </p:nvSpPr>
        <p:spPr>
          <a:xfrm>
            <a:off x="1143000" y="388620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us +sp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3"/>
          </p:cNvPr>
          <p:cNvSpPr/>
          <p:nvPr/>
        </p:nvSpPr>
        <p:spPr>
          <a:xfrm>
            <a:off x="1143000" y="487692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 with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4"/>
          </p:cNvPr>
          <p:cNvSpPr/>
          <p:nvPr/>
        </p:nvSpPr>
        <p:spPr>
          <a:xfrm>
            <a:off x="1143000" y="5867280"/>
            <a:ext cx="3200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28195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-buffer, Perspectiv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3962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09480" y="4572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4)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Spline, Bezier, B-spline, NU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"/>
          </p:cNvPr>
          <p:cNvSpPr/>
          <p:nvPr/>
        </p:nvSpPr>
        <p:spPr>
          <a:xfrm>
            <a:off x="838080" y="220968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>
            <a:hlinkClick r:id="rId2"/>
          </p:cNvPr>
          <p:cNvSpPr/>
          <p:nvPr/>
        </p:nvSpPr>
        <p:spPr>
          <a:xfrm>
            <a:off x="838080" y="292572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rId3"/>
          </p:cNvPr>
          <p:cNvSpPr/>
          <p:nvPr/>
        </p:nvSpPr>
        <p:spPr>
          <a:xfrm>
            <a:off x="838080" y="364176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rId4"/>
          </p:cNvPr>
          <p:cNvSpPr/>
          <p:nvPr/>
        </p:nvSpPr>
        <p:spPr>
          <a:xfrm>
            <a:off x="838080" y="435780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i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76720" y="2133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76720" y="3657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507348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-S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080" y="579132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-Splin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5867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Uniform Rational B-Splin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908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295280" y="2286000"/>
                <a:ext cx="27212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22424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029200" y="2819520"/>
                <a:ext cx="1389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287640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1219320" y="4191120"/>
                <a:ext cx="67802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{"/>
                                  <m:endChr m:val="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e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≤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≤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600200" y="3808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 Uniform Rational B-Spline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600200" y="1143000"/>
            <a:ext cx="6705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5) Su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(6) Other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generating surfaces with r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28800" y="2362320"/>
            <a:ext cx="22860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RBS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480060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28800" y="556272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8800" y="2362320"/>
            <a:ext cx="6477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Fields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 Layer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G Sampl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The Application of the third order Spline Curve for Satin embroid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838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743200" y="9144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2209680"/>
            <a:ext cx="647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G Examples in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 Application of the third order Spline Curve for Satin embroid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143400" cy="504684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295280" y="0"/>
            <a:ext cx="7102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plication of the third order Spline Curve for Satin embroidery (Needlewor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rcRect l="-4864" t="-9445" r="-5561" b="-9716"/>
          <a:stretch/>
        </p:blipFill>
        <p:spPr>
          <a:xfrm>
            <a:off x="2666880" y="533520"/>
            <a:ext cx="3426120" cy="1903320"/>
          </a:xfrm>
          <a:prstGeom prst="rect">
            <a:avLst/>
          </a:prstGeom>
          <a:ln cap="sq" w="22320">
            <a:solidFill>
              <a:srgbClr val="1c1c1c"/>
            </a:solidFill>
            <a:miter/>
          </a:ln>
        </p:spPr>
      </p:pic>
      <p:pic>
        <p:nvPicPr>
          <p:cNvPr id="631" name="" descr=""/>
          <p:cNvPicPr/>
          <p:nvPr/>
        </p:nvPicPr>
        <p:blipFill>
          <a:blip r:embed="rId2"/>
          <a:srcRect l="-2843" t="-9445" r="-3413" b="-9716"/>
          <a:stretch/>
        </p:blipFill>
        <p:spPr>
          <a:xfrm>
            <a:off x="1905120" y="3200400"/>
            <a:ext cx="5637240" cy="1903320"/>
          </a:xfrm>
          <a:prstGeom prst="rect">
            <a:avLst/>
          </a:prstGeom>
          <a:ln cap="sq" w="22320">
            <a:solidFill>
              <a:srgbClr val="1c1c1c"/>
            </a:solidFill>
            <a:miter/>
          </a:ln>
        </p:spPr>
      </p:pic>
      <p:sp>
        <p:nvSpPr>
          <p:cNvPr id="632" name=""/>
          <p:cNvSpPr/>
          <p:nvPr/>
        </p:nvSpPr>
        <p:spPr>
          <a:xfrm>
            <a:off x="53352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roidery Sewing Machine with RO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5257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roidery Sewing Machine with Personal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rcRect l="-3223" t="-20178" r="-4359" b="-9535"/>
          <a:stretch/>
        </p:blipFill>
        <p:spPr>
          <a:xfrm>
            <a:off x="1066680" y="1143000"/>
            <a:ext cx="7540920" cy="3657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33520" y="20574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42670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1905120"/>
            <a:ext cx="121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89520" y="1676520"/>
            <a:ext cx="282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ementary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066680" y="480060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of the Center Curve with the Splin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of Needl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27120" cy="21700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3618000" cy="188100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rId3"/>
          </p:cNvPr>
          <p:cNvSpPr/>
          <p:nvPr/>
        </p:nvSpPr>
        <p:spPr>
          <a:xfrm>
            <a:off x="3200400" y="525780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76520" y="30492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Example of the Satin embroide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1295280" y="990720"/>
            <a:ext cx="6410160" cy="4498920"/>
            <a:chOff x="1295280" y="990720"/>
            <a:chExt cx="6410160" cy="4498920"/>
          </a:xfrm>
        </p:grpSpPr>
        <p:grpSp>
          <p:nvGrpSpPr>
            <p:cNvPr id="645" name=""/>
            <p:cNvGrpSpPr/>
            <p:nvPr/>
          </p:nvGrpSpPr>
          <p:grpSpPr>
            <a:xfrm>
              <a:off x="1295280" y="990720"/>
              <a:ext cx="6400800" cy="4498920"/>
              <a:chOff x="1295280" y="990720"/>
              <a:chExt cx="6400800" cy="4498920"/>
            </a:xfrm>
          </p:grpSpPr>
          <p:pic>
            <p:nvPicPr>
              <p:cNvPr id="646" name="" descr=""/>
              <p:cNvPicPr/>
              <p:nvPr/>
            </p:nvPicPr>
            <p:blipFill>
              <a:blip r:embed="rId1"/>
              <a:srcRect l="0" t="0" r="-3115" b="0"/>
              <a:stretch/>
            </p:blipFill>
            <p:spPr>
              <a:xfrm>
                <a:off x="5181480" y="990720"/>
                <a:ext cx="2514600" cy="22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990720"/>
                <a:ext cx="3414600" cy="221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8" name=""/>
              <p:cNvGrpSpPr/>
              <p:nvPr/>
            </p:nvGrpSpPr>
            <p:grpSpPr>
              <a:xfrm>
                <a:off x="5181480" y="3429360"/>
                <a:ext cx="2514600" cy="1981080"/>
                <a:chOff x="5181480" y="3429360"/>
                <a:chExt cx="2514600" cy="1981080"/>
              </a:xfrm>
            </p:grpSpPr>
            <p:pic>
              <p:nvPicPr>
                <p:cNvPr id="64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181480" y="3429360"/>
                  <a:ext cx="2514600" cy="198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0" name=""/>
                <p:cNvSpPr/>
                <p:nvPr/>
              </p:nvSpPr>
              <p:spPr>
                <a:xfrm>
                  <a:off x="7275600" y="4343400"/>
                  <a:ext cx="8388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781680" y="3814920"/>
                  <a:ext cx="84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162480" y="3846600"/>
                  <a:ext cx="84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67200" y="4380120"/>
                  <a:ext cx="84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512040" y="5027760"/>
                  <a:ext cx="8388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867280" y="4994280"/>
                  <a:ext cx="84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298160" y="3356280"/>
                <a:ext cx="3429000" cy="2133360"/>
                <a:chOff x="1298160" y="3356280"/>
                <a:chExt cx="3429000" cy="2133360"/>
              </a:xfrm>
            </p:grpSpPr>
            <p:pic>
              <p:nvPicPr>
                <p:cNvPr id="65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98160" y="3356280"/>
                  <a:ext cx="3429000" cy="213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8" name=""/>
                <p:cNvSpPr/>
                <p:nvPr/>
              </p:nvSpPr>
              <p:spPr>
                <a:xfrm>
                  <a:off x="1968120" y="4691160"/>
                  <a:ext cx="58680" cy="5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98400" y="437544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644120" y="4688280"/>
                  <a:ext cx="5904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794960" y="4118040"/>
                  <a:ext cx="59040" cy="5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118960" y="409752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364840" y="4346640"/>
                  <a:ext cx="59040" cy="5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041360" y="476748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771720" y="4997520"/>
                  <a:ext cx="58680" cy="5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4480" y="467064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839680" y="490716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465000" y="5040720"/>
                  <a:ext cx="5904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146040" y="502308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166560" y="4346640"/>
                  <a:ext cx="59040" cy="5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465000" y="3835800"/>
                  <a:ext cx="5904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444480" y="449928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180960" y="4032360"/>
                  <a:ext cx="58680" cy="5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779640" y="385308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059000" y="412632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138200" y="444060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7" name=""/>
            <p:cNvGrpSpPr/>
            <p:nvPr/>
          </p:nvGrpSpPr>
          <p:grpSpPr>
            <a:xfrm>
              <a:off x="1512720" y="1179360"/>
              <a:ext cx="6192720" cy="4238640"/>
              <a:chOff x="1512720" y="1179360"/>
              <a:chExt cx="6192720" cy="423864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1638000" y="1179360"/>
                <a:ext cx="5994360" cy="1932120"/>
                <a:chOff x="1638000" y="1179360"/>
                <a:chExt cx="5994360" cy="19321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1638000" y="1395360"/>
                  <a:ext cx="2928960" cy="1628640"/>
                </a:xfrm>
                <a:custGeom>
                  <a:avLst/>
                  <a:gdLst/>
                  <a:ahLst/>
                  <a:rect l="l" t="t" r="r" b="b"/>
                  <a:pathLst>
                    <a:path w="1845" h="1026">
                      <a:moveTo>
                        <a:pt x="231" y="192"/>
                      </a:moveTo>
                      <a:lnTo>
                        <a:pt x="408" y="195"/>
                      </a:lnTo>
                      <a:lnTo>
                        <a:pt x="501" y="249"/>
                      </a:lnTo>
                      <a:lnTo>
                        <a:pt x="618" y="369"/>
                      </a:lnTo>
                      <a:lnTo>
                        <a:pt x="690" y="456"/>
                      </a:lnTo>
                      <a:lnTo>
                        <a:pt x="729" y="510"/>
                      </a:lnTo>
                      <a:lnTo>
                        <a:pt x="756" y="561"/>
                      </a:lnTo>
                      <a:lnTo>
                        <a:pt x="798" y="588"/>
                      </a:lnTo>
                      <a:lnTo>
                        <a:pt x="864" y="636"/>
                      </a:lnTo>
                      <a:lnTo>
                        <a:pt x="927" y="675"/>
                      </a:lnTo>
                      <a:lnTo>
                        <a:pt x="981" y="693"/>
                      </a:lnTo>
                      <a:lnTo>
                        <a:pt x="1023" y="714"/>
                      </a:lnTo>
                      <a:lnTo>
                        <a:pt x="1098" y="723"/>
                      </a:lnTo>
                      <a:lnTo>
                        <a:pt x="1167" y="732"/>
                      </a:lnTo>
                      <a:lnTo>
                        <a:pt x="1377" y="735"/>
                      </a:lnTo>
                      <a:lnTo>
                        <a:pt x="1413" y="717"/>
                      </a:lnTo>
                      <a:lnTo>
                        <a:pt x="1446" y="684"/>
                      </a:lnTo>
                      <a:lnTo>
                        <a:pt x="1488" y="645"/>
                      </a:lnTo>
                      <a:lnTo>
                        <a:pt x="1479" y="606"/>
                      </a:lnTo>
                      <a:lnTo>
                        <a:pt x="1500" y="600"/>
                      </a:lnTo>
                      <a:lnTo>
                        <a:pt x="1494" y="549"/>
                      </a:lnTo>
                      <a:lnTo>
                        <a:pt x="1512" y="540"/>
                      </a:lnTo>
                      <a:lnTo>
                        <a:pt x="1509" y="411"/>
                      </a:lnTo>
                      <a:lnTo>
                        <a:pt x="1494" y="363"/>
                      </a:lnTo>
                      <a:lnTo>
                        <a:pt x="1458" y="312"/>
                      </a:lnTo>
                      <a:lnTo>
                        <a:pt x="1428" y="285"/>
                      </a:lnTo>
                      <a:lnTo>
                        <a:pt x="1371" y="252"/>
                      </a:lnTo>
                      <a:lnTo>
                        <a:pt x="1329" y="231"/>
                      </a:lnTo>
                      <a:lnTo>
                        <a:pt x="1188" y="231"/>
                      </a:lnTo>
                      <a:lnTo>
                        <a:pt x="1134" y="264"/>
                      </a:lnTo>
                      <a:lnTo>
                        <a:pt x="1143" y="309"/>
                      </a:lnTo>
                      <a:lnTo>
                        <a:pt x="1113" y="324"/>
                      </a:lnTo>
                      <a:lnTo>
                        <a:pt x="1113" y="441"/>
                      </a:lnTo>
                      <a:lnTo>
                        <a:pt x="1128" y="474"/>
                      </a:lnTo>
                      <a:lnTo>
                        <a:pt x="1173" y="516"/>
                      </a:lnTo>
                      <a:lnTo>
                        <a:pt x="1251" y="513"/>
                      </a:lnTo>
                      <a:lnTo>
                        <a:pt x="1317" y="456"/>
                      </a:lnTo>
                      <a:lnTo>
                        <a:pt x="1335" y="405"/>
                      </a:lnTo>
                      <a:lnTo>
                        <a:pt x="1341" y="339"/>
                      </a:lnTo>
                      <a:lnTo>
                        <a:pt x="1362" y="312"/>
                      </a:lnTo>
                      <a:lnTo>
                        <a:pt x="1407" y="354"/>
                      </a:lnTo>
                      <a:lnTo>
                        <a:pt x="1401" y="417"/>
                      </a:lnTo>
                      <a:lnTo>
                        <a:pt x="1389" y="474"/>
                      </a:lnTo>
                      <a:lnTo>
                        <a:pt x="1362" y="504"/>
                      </a:lnTo>
                      <a:lnTo>
                        <a:pt x="1302" y="552"/>
                      </a:lnTo>
                      <a:lnTo>
                        <a:pt x="1275" y="573"/>
                      </a:lnTo>
                      <a:lnTo>
                        <a:pt x="1137" y="567"/>
                      </a:lnTo>
                      <a:lnTo>
                        <a:pt x="1101" y="528"/>
                      </a:lnTo>
                      <a:lnTo>
                        <a:pt x="1056" y="501"/>
                      </a:lnTo>
                      <a:lnTo>
                        <a:pt x="1023" y="435"/>
                      </a:lnTo>
                      <a:lnTo>
                        <a:pt x="999" y="384"/>
                      </a:lnTo>
                      <a:lnTo>
                        <a:pt x="990" y="321"/>
                      </a:lnTo>
                      <a:lnTo>
                        <a:pt x="1029" y="201"/>
                      </a:lnTo>
                      <a:lnTo>
                        <a:pt x="1086" y="120"/>
                      </a:lnTo>
                      <a:lnTo>
                        <a:pt x="1128" y="75"/>
                      </a:lnTo>
                      <a:lnTo>
                        <a:pt x="1167" y="57"/>
                      </a:lnTo>
                      <a:lnTo>
                        <a:pt x="1185" y="30"/>
                      </a:lnTo>
                      <a:lnTo>
                        <a:pt x="1221" y="21"/>
                      </a:lnTo>
                      <a:lnTo>
                        <a:pt x="1266" y="0"/>
                      </a:lnTo>
                      <a:lnTo>
                        <a:pt x="1521" y="3"/>
                      </a:lnTo>
                      <a:lnTo>
                        <a:pt x="1560" y="21"/>
                      </a:lnTo>
                      <a:lnTo>
                        <a:pt x="1659" y="117"/>
                      </a:lnTo>
                      <a:lnTo>
                        <a:pt x="1710" y="138"/>
                      </a:lnTo>
                      <a:lnTo>
                        <a:pt x="1740" y="192"/>
                      </a:lnTo>
                      <a:lnTo>
                        <a:pt x="1788" y="261"/>
                      </a:lnTo>
                      <a:lnTo>
                        <a:pt x="1827" y="336"/>
                      </a:lnTo>
                      <a:lnTo>
                        <a:pt x="1830" y="402"/>
                      </a:lnTo>
                      <a:lnTo>
                        <a:pt x="1845" y="426"/>
                      </a:lnTo>
                      <a:lnTo>
                        <a:pt x="1842" y="504"/>
                      </a:lnTo>
                      <a:lnTo>
                        <a:pt x="1842" y="606"/>
                      </a:lnTo>
                      <a:lnTo>
                        <a:pt x="1812" y="702"/>
                      </a:lnTo>
                      <a:lnTo>
                        <a:pt x="1767" y="768"/>
                      </a:lnTo>
                      <a:lnTo>
                        <a:pt x="1740" y="828"/>
                      </a:lnTo>
                      <a:lnTo>
                        <a:pt x="1677" y="873"/>
                      </a:lnTo>
                      <a:lnTo>
                        <a:pt x="1602" y="936"/>
                      </a:lnTo>
                      <a:lnTo>
                        <a:pt x="1575" y="963"/>
                      </a:lnTo>
                      <a:lnTo>
                        <a:pt x="1515" y="981"/>
                      </a:lnTo>
                      <a:lnTo>
                        <a:pt x="1473" y="1011"/>
                      </a:lnTo>
                      <a:lnTo>
                        <a:pt x="1416" y="1011"/>
                      </a:lnTo>
                      <a:lnTo>
                        <a:pt x="1407" y="1026"/>
                      </a:lnTo>
                      <a:lnTo>
                        <a:pt x="1095" y="1026"/>
                      </a:lnTo>
                      <a:lnTo>
                        <a:pt x="1077" y="1017"/>
                      </a:lnTo>
                      <a:lnTo>
                        <a:pt x="1017" y="1011"/>
                      </a:lnTo>
                      <a:lnTo>
                        <a:pt x="936" y="966"/>
                      </a:lnTo>
                      <a:lnTo>
                        <a:pt x="882" y="966"/>
                      </a:lnTo>
                      <a:lnTo>
                        <a:pt x="837" y="924"/>
                      </a:lnTo>
                      <a:lnTo>
                        <a:pt x="768" y="897"/>
                      </a:lnTo>
                      <a:lnTo>
                        <a:pt x="702" y="834"/>
                      </a:lnTo>
                      <a:lnTo>
                        <a:pt x="645" y="792"/>
                      </a:lnTo>
                      <a:lnTo>
                        <a:pt x="585" y="708"/>
                      </a:lnTo>
                      <a:lnTo>
                        <a:pt x="543" y="666"/>
                      </a:lnTo>
                      <a:lnTo>
                        <a:pt x="528" y="609"/>
                      </a:lnTo>
                      <a:lnTo>
                        <a:pt x="498" y="552"/>
                      </a:lnTo>
                      <a:lnTo>
                        <a:pt x="471" y="462"/>
                      </a:lnTo>
                      <a:lnTo>
                        <a:pt x="462" y="417"/>
                      </a:lnTo>
                      <a:lnTo>
                        <a:pt x="417" y="384"/>
                      </a:lnTo>
                      <a:lnTo>
                        <a:pt x="369" y="348"/>
                      </a:lnTo>
                      <a:lnTo>
                        <a:pt x="297" y="354"/>
                      </a:lnTo>
                      <a:lnTo>
                        <a:pt x="219" y="372"/>
                      </a:lnTo>
                      <a:lnTo>
                        <a:pt x="186" y="399"/>
                      </a:lnTo>
                      <a:lnTo>
                        <a:pt x="165" y="438"/>
                      </a:lnTo>
                      <a:lnTo>
                        <a:pt x="165" y="549"/>
                      </a:lnTo>
                      <a:lnTo>
                        <a:pt x="180" y="582"/>
                      </a:lnTo>
                      <a:lnTo>
                        <a:pt x="210" y="609"/>
                      </a:lnTo>
                      <a:lnTo>
                        <a:pt x="246" y="615"/>
                      </a:lnTo>
                      <a:lnTo>
                        <a:pt x="288" y="621"/>
                      </a:lnTo>
                      <a:lnTo>
                        <a:pt x="315" y="630"/>
                      </a:lnTo>
                      <a:lnTo>
                        <a:pt x="357" y="594"/>
                      </a:lnTo>
                      <a:lnTo>
                        <a:pt x="363" y="531"/>
                      </a:lnTo>
                      <a:lnTo>
                        <a:pt x="321" y="504"/>
                      </a:lnTo>
                      <a:lnTo>
                        <a:pt x="348" y="483"/>
                      </a:lnTo>
                      <a:lnTo>
                        <a:pt x="390" y="501"/>
                      </a:lnTo>
                      <a:lnTo>
                        <a:pt x="405" y="531"/>
                      </a:lnTo>
                      <a:lnTo>
                        <a:pt x="411" y="624"/>
                      </a:lnTo>
                      <a:lnTo>
                        <a:pt x="372" y="657"/>
                      </a:lnTo>
                      <a:lnTo>
                        <a:pt x="315" y="711"/>
                      </a:lnTo>
                      <a:lnTo>
                        <a:pt x="276" y="738"/>
                      </a:lnTo>
                      <a:lnTo>
                        <a:pt x="225" y="738"/>
                      </a:lnTo>
                      <a:lnTo>
                        <a:pt x="180" y="762"/>
                      </a:lnTo>
                      <a:lnTo>
                        <a:pt x="93" y="762"/>
                      </a:lnTo>
                      <a:lnTo>
                        <a:pt x="33" y="690"/>
                      </a:lnTo>
                      <a:lnTo>
                        <a:pt x="18" y="651"/>
                      </a:lnTo>
                      <a:lnTo>
                        <a:pt x="12" y="600"/>
                      </a:lnTo>
                      <a:lnTo>
                        <a:pt x="0" y="570"/>
                      </a:lnTo>
                      <a:lnTo>
                        <a:pt x="6" y="381"/>
                      </a:lnTo>
                      <a:lnTo>
                        <a:pt x="42" y="312"/>
                      </a:lnTo>
                      <a:lnTo>
                        <a:pt x="75" y="261"/>
                      </a:lnTo>
                      <a:lnTo>
                        <a:pt x="123" y="240"/>
                      </a:lnTo>
                      <a:lnTo>
                        <a:pt x="156" y="228"/>
                      </a:lnTo>
                      <a:lnTo>
                        <a:pt x="210" y="207"/>
                      </a:lnTo>
                      <a:lnTo>
                        <a:pt x="231" y="192"/>
                      </a:lnTo>
                      <a:close/>
                    </a:path>
                  </a:pathLst>
                </a:custGeom>
                <a:noFill/>
                <a:ln cap="sq" w="3168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486040" y="1179360"/>
                  <a:ext cx="2146320" cy="1932120"/>
                </a:xfrm>
                <a:custGeom>
                  <a:avLst/>
                  <a:gdLst/>
                  <a:ahLst/>
                  <a:rect l="l" t="t" r="r" b="b"/>
                  <a:pathLst>
                    <a:path w="1352" h="1217">
                      <a:moveTo>
                        <a:pt x="1352" y="1217"/>
                      </a:moveTo>
                      <a:lnTo>
                        <a:pt x="1252" y="1133"/>
                      </a:lnTo>
                      <a:lnTo>
                        <a:pt x="1140" y="1006"/>
                      </a:lnTo>
                      <a:lnTo>
                        <a:pt x="1059" y="924"/>
                      </a:lnTo>
                      <a:lnTo>
                        <a:pt x="1029" y="813"/>
                      </a:lnTo>
                      <a:lnTo>
                        <a:pt x="971" y="702"/>
                      </a:lnTo>
                      <a:lnTo>
                        <a:pt x="918" y="526"/>
                      </a:lnTo>
                      <a:lnTo>
                        <a:pt x="901" y="439"/>
                      </a:lnTo>
                      <a:lnTo>
                        <a:pt x="813" y="374"/>
                      </a:lnTo>
                      <a:lnTo>
                        <a:pt x="719" y="304"/>
                      </a:lnTo>
                      <a:lnTo>
                        <a:pt x="579" y="316"/>
                      </a:lnTo>
                      <a:lnTo>
                        <a:pt x="427" y="351"/>
                      </a:lnTo>
                      <a:lnTo>
                        <a:pt x="363" y="404"/>
                      </a:lnTo>
                      <a:lnTo>
                        <a:pt x="322" y="480"/>
                      </a:lnTo>
                      <a:lnTo>
                        <a:pt x="322" y="696"/>
                      </a:lnTo>
                      <a:lnTo>
                        <a:pt x="351" y="760"/>
                      </a:lnTo>
                      <a:lnTo>
                        <a:pt x="409" y="813"/>
                      </a:lnTo>
                      <a:lnTo>
                        <a:pt x="480" y="825"/>
                      </a:lnTo>
                      <a:lnTo>
                        <a:pt x="561" y="836"/>
                      </a:lnTo>
                      <a:lnTo>
                        <a:pt x="614" y="854"/>
                      </a:lnTo>
                      <a:lnTo>
                        <a:pt x="696" y="784"/>
                      </a:lnTo>
                      <a:lnTo>
                        <a:pt x="708" y="661"/>
                      </a:lnTo>
                      <a:lnTo>
                        <a:pt x="626" y="608"/>
                      </a:lnTo>
                      <a:lnTo>
                        <a:pt x="678" y="567"/>
                      </a:lnTo>
                      <a:lnTo>
                        <a:pt x="760" y="602"/>
                      </a:lnTo>
                      <a:lnTo>
                        <a:pt x="790" y="661"/>
                      </a:lnTo>
                      <a:lnTo>
                        <a:pt x="801" y="842"/>
                      </a:lnTo>
                      <a:lnTo>
                        <a:pt x="725" y="907"/>
                      </a:lnTo>
                      <a:lnTo>
                        <a:pt x="614" y="1012"/>
                      </a:lnTo>
                      <a:lnTo>
                        <a:pt x="538" y="1065"/>
                      </a:lnTo>
                      <a:lnTo>
                        <a:pt x="439" y="1065"/>
                      </a:lnTo>
                      <a:lnTo>
                        <a:pt x="351" y="1111"/>
                      </a:lnTo>
                      <a:lnTo>
                        <a:pt x="181" y="1111"/>
                      </a:lnTo>
                      <a:lnTo>
                        <a:pt x="64" y="971"/>
                      </a:lnTo>
                      <a:lnTo>
                        <a:pt x="35" y="895"/>
                      </a:lnTo>
                      <a:lnTo>
                        <a:pt x="23" y="795"/>
                      </a:lnTo>
                      <a:lnTo>
                        <a:pt x="0" y="737"/>
                      </a:lnTo>
                      <a:lnTo>
                        <a:pt x="12" y="368"/>
                      </a:lnTo>
                      <a:lnTo>
                        <a:pt x="82" y="234"/>
                      </a:lnTo>
                      <a:lnTo>
                        <a:pt x="146" y="135"/>
                      </a:lnTo>
                      <a:lnTo>
                        <a:pt x="240" y="94"/>
                      </a:lnTo>
                      <a:lnTo>
                        <a:pt x="304" y="70"/>
                      </a:lnTo>
                      <a:lnTo>
                        <a:pt x="409" y="29"/>
                      </a:lnTo>
                      <a:lnTo>
                        <a:pt x="450" y="0"/>
                      </a:lnTo>
                      <a:lnTo>
                        <a:pt x="795" y="6"/>
                      </a:lnTo>
                      <a:lnTo>
                        <a:pt x="1006" y="117"/>
                      </a:lnTo>
                      <a:lnTo>
                        <a:pt x="1154" y="289"/>
                      </a:lnTo>
                      <a:lnTo>
                        <a:pt x="1302" y="460"/>
                      </a:lnTo>
                      <a:lnTo>
                        <a:pt x="1344" y="510"/>
                      </a:lnTo>
                    </a:path>
                  </a:pathLst>
                </a:custGeom>
                <a:noFill/>
                <a:ln cap="sq" w="381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1512720" y="3585960"/>
                <a:ext cx="6192720" cy="1832040"/>
                <a:chOff x="1512720" y="3585960"/>
                <a:chExt cx="6192720" cy="183204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1512720" y="3662280"/>
                  <a:ext cx="2928960" cy="1628640"/>
                </a:xfrm>
                <a:custGeom>
                  <a:avLst/>
                  <a:gdLst/>
                  <a:ahLst/>
                  <a:rect l="l" t="t" r="r" b="b"/>
                  <a:pathLst>
                    <a:path w="1845" h="1026">
                      <a:moveTo>
                        <a:pt x="231" y="192"/>
                      </a:moveTo>
                      <a:lnTo>
                        <a:pt x="408" y="195"/>
                      </a:lnTo>
                      <a:lnTo>
                        <a:pt x="501" y="249"/>
                      </a:lnTo>
                      <a:lnTo>
                        <a:pt x="618" y="369"/>
                      </a:lnTo>
                      <a:lnTo>
                        <a:pt x="690" y="456"/>
                      </a:lnTo>
                      <a:lnTo>
                        <a:pt x="729" y="510"/>
                      </a:lnTo>
                      <a:lnTo>
                        <a:pt x="756" y="561"/>
                      </a:lnTo>
                      <a:lnTo>
                        <a:pt x="798" y="588"/>
                      </a:lnTo>
                      <a:lnTo>
                        <a:pt x="864" y="636"/>
                      </a:lnTo>
                      <a:lnTo>
                        <a:pt x="927" y="675"/>
                      </a:lnTo>
                      <a:lnTo>
                        <a:pt x="981" y="693"/>
                      </a:lnTo>
                      <a:lnTo>
                        <a:pt x="1023" y="714"/>
                      </a:lnTo>
                      <a:lnTo>
                        <a:pt x="1098" y="723"/>
                      </a:lnTo>
                      <a:lnTo>
                        <a:pt x="1167" y="732"/>
                      </a:lnTo>
                      <a:lnTo>
                        <a:pt x="1377" y="735"/>
                      </a:lnTo>
                      <a:lnTo>
                        <a:pt x="1413" y="717"/>
                      </a:lnTo>
                      <a:lnTo>
                        <a:pt x="1446" y="684"/>
                      </a:lnTo>
                      <a:lnTo>
                        <a:pt x="1488" y="645"/>
                      </a:lnTo>
                      <a:lnTo>
                        <a:pt x="1479" y="606"/>
                      </a:lnTo>
                      <a:lnTo>
                        <a:pt x="1500" y="600"/>
                      </a:lnTo>
                      <a:lnTo>
                        <a:pt x="1494" y="549"/>
                      </a:lnTo>
                      <a:lnTo>
                        <a:pt x="1512" y="540"/>
                      </a:lnTo>
                      <a:lnTo>
                        <a:pt x="1509" y="411"/>
                      </a:lnTo>
                      <a:lnTo>
                        <a:pt x="1494" y="363"/>
                      </a:lnTo>
                      <a:lnTo>
                        <a:pt x="1458" y="312"/>
                      </a:lnTo>
                      <a:lnTo>
                        <a:pt x="1428" y="285"/>
                      </a:lnTo>
                      <a:lnTo>
                        <a:pt x="1371" y="252"/>
                      </a:lnTo>
                      <a:lnTo>
                        <a:pt x="1329" y="231"/>
                      </a:lnTo>
                      <a:lnTo>
                        <a:pt x="1188" y="231"/>
                      </a:lnTo>
                      <a:lnTo>
                        <a:pt x="1134" y="264"/>
                      </a:lnTo>
                      <a:lnTo>
                        <a:pt x="1143" y="309"/>
                      </a:lnTo>
                      <a:lnTo>
                        <a:pt x="1113" y="324"/>
                      </a:lnTo>
                      <a:lnTo>
                        <a:pt x="1113" y="441"/>
                      </a:lnTo>
                      <a:lnTo>
                        <a:pt x="1128" y="474"/>
                      </a:lnTo>
                      <a:lnTo>
                        <a:pt x="1173" y="516"/>
                      </a:lnTo>
                      <a:lnTo>
                        <a:pt x="1251" y="513"/>
                      </a:lnTo>
                      <a:lnTo>
                        <a:pt x="1317" y="456"/>
                      </a:lnTo>
                      <a:lnTo>
                        <a:pt x="1335" y="405"/>
                      </a:lnTo>
                      <a:lnTo>
                        <a:pt x="1341" y="339"/>
                      </a:lnTo>
                      <a:lnTo>
                        <a:pt x="1362" y="312"/>
                      </a:lnTo>
                      <a:lnTo>
                        <a:pt x="1407" y="354"/>
                      </a:lnTo>
                      <a:lnTo>
                        <a:pt x="1401" y="417"/>
                      </a:lnTo>
                      <a:lnTo>
                        <a:pt x="1389" y="474"/>
                      </a:lnTo>
                      <a:lnTo>
                        <a:pt x="1362" y="504"/>
                      </a:lnTo>
                      <a:lnTo>
                        <a:pt x="1302" y="552"/>
                      </a:lnTo>
                      <a:lnTo>
                        <a:pt x="1275" y="573"/>
                      </a:lnTo>
                      <a:lnTo>
                        <a:pt x="1137" y="567"/>
                      </a:lnTo>
                      <a:lnTo>
                        <a:pt x="1101" y="528"/>
                      </a:lnTo>
                      <a:lnTo>
                        <a:pt x="1056" y="501"/>
                      </a:lnTo>
                      <a:lnTo>
                        <a:pt x="1023" y="435"/>
                      </a:lnTo>
                      <a:lnTo>
                        <a:pt x="999" y="384"/>
                      </a:lnTo>
                      <a:lnTo>
                        <a:pt x="990" y="321"/>
                      </a:lnTo>
                      <a:lnTo>
                        <a:pt x="1029" y="201"/>
                      </a:lnTo>
                      <a:lnTo>
                        <a:pt x="1086" y="120"/>
                      </a:lnTo>
                      <a:lnTo>
                        <a:pt x="1128" y="75"/>
                      </a:lnTo>
                      <a:lnTo>
                        <a:pt x="1167" y="57"/>
                      </a:lnTo>
                      <a:lnTo>
                        <a:pt x="1185" y="30"/>
                      </a:lnTo>
                      <a:lnTo>
                        <a:pt x="1221" y="21"/>
                      </a:lnTo>
                      <a:lnTo>
                        <a:pt x="1266" y="0"/>
                      </a:lnTo>
                      <a:lnTo>
                        <a:pt x="1521" y="3"/>
                      </a:lnTo>
                      <a:lnTo>
                        <a:pt x="1560" y="21"/>
                      </a:lnTo>
                      <a:lnTo>
                        <a:pt x="1659" y="117"/>
                      </a:lnTo>
                      <a:lnTo>
                        <a:pt x="1710" y="138"/>
                      </a:lnTo>
                      <a:lnTo>
                        <a:pt x="1740" y="192"/>
                      </a:lnTo>
                      <a:lnTo>
                        <a:pt x="1788" y="261"/>
                      </a:lnTo>
                      <a:lnTo>
                        <a:pt x="1827" y="336"/>
                      </a:lnTo>
                      <a:lnTo>
                        <a:pt x="1830" y="402"/>
                      </a:lnTo>
                      <a:lnTo>
                        <a:pt x="1845" y="426"/>
                      </a:lnTo>
                      <a:lnTo>
                        <a:pt x="1842" y="504"/>
                      </a:lnTo>
                      <a:lnTo>
                        <a:pt x="1842" y="606"/>
                      </a:lnTo>
                      <a:lnTo>
                        <a:pt x="1812" y="702"/>
                      </a:lnTo>
                      <a:lnTo>
                        <a:pt x="1767" y="768"/>
                      </a:lnTo>
                      <a:lnTo>
                        <a:pt x="1740" y="828"/>
                      </a:lnTo>
                      <a:lnTo>
                        <a:pt x="1677" y="873"/>
                      </a:lnTo>
                      <a:lnTo>
                        <a:pt x="1602" y="936"/>
                      </a:lnTo>
                      <a:lnTo>
                        <a:pt x="1575" y="963"/>
                      </a:lnTo>
                      <a:lnTo>
                        <a:pt x="1515" y="981"/>
                      </a:lnTo>
                      <a:lnTo>
                        <a:pt x="1473" y="1011"/>
                      </a:lnTo>
                      <a:lnTo>
                        <a:pt x="1416" y="1011"/>
                      </a:lnTo>
                      <a:lnTo>
                        <a:pt x="1407" y="1026"/>
                      </a:lnTo>
                      <a:lnTo>
                        <a:pt x="1095" y="1026"/>
                      </a:lnTo>
                      <a:lnTo>
                        <a:pt x="1077" y="1017"/>
                      </a:lnTo>
                      <a:lnTo>
                        <a:pt x="1017" y="1011"/>
                      </a:lnTo>
                      <a:lnTo>
                        <a:pt x="936" y="966"/>
                      </a:lnTo>
                      <a:lnTo>
                        <a:pt x="882" y="966"/>
                      </a:lnTo>
                      <a:lnTo>
                        <a:pt x="837" y="924"/>
                      </a:lnTo>
                      <a:lnTo>
                        <a:pt x="768" y="897"/>
                      </a:lnTo>
                      <a:lnTo>
                        <a:pt x="702" y="834"/>
                      </a:lnTo>
                      <a:lnTo>
                        <a:pt x="645" y="792"/>
                      </a:lnTo>
                      <a:lnTo>
                        <a:pt x="585" y="708"/>
                      </a:lnTo>
                      <a:lnTo>
                        <a:pt x="543" y="666"/>
                      </a:lnTo>
                      <a:lnTo>
                        <a:pt x="528" y="609"/>
                      </a:lnTo>
                      <a:lnTo>
                        <a:pt x="498" y="552"/>
                      </a:lnTo>
                      <a:lnTo>
                        <a:pt x="471" y="462"/>
                      </a:lnTo>
                      <a:lnTo>
                        <a:pt x="462" y="417"/>
                      </a:lnTo>
                      <a:lnTo>
                        <a:pt x="417" y="384"/>
                      </a:lnTo>
                      <a:lnTo>
                        <a:pt x="369" y="348"/>
                      </a:lnTo>
                      <a:lnTo>
                        <a:pt x="297" y="354"/>
                      </a:lnTo>
                      <a:lnTo>
                        <a:pt x="219" y="372"/>
                      </a:lnTo>
                      <a:lnTo>
                        <a:pt x="186" y="399"/>
                      </a:lnTo>
                      <a:lnTo>
                        <a:pt x="165" y="438"/>
                      </a:lnTo>
                      <a:lnTo>
                        <a:pt x="165" y="549"/>
                      </a:lnTo>
                      <a:lnTo>
                        <a:pt x="180" y="582"/>
                      </a:lnTo>
                      <a:lnTo>
                        <a:pt x="210" y="609"/>
                      </a:lnTo>
                      <a:lnTo>
                        <a:pt x="246" y="615"/>
                      </a:lnTo>
                      <a:lnTo>
                        <a:pt x="288" y="621"/>
                      </a:lnTo>
                      <a:lnTo>
                        <a:pt x="315" y="630"/>
                      </a:lnTo>
                      <a:lnTo>
                        <a:pt x="357" y="594"/>
                      </a:lnTo>
                      <a:lnTo>
                        <a:pt x="363" y="531"/>
                      </a:lnTo>
                      <a:lnTo>
                        <a:pt x="321" y="504"/>
                      </a:lnTo>
                      <a:lnTo>
                        <a:pt x="348" y="483"/>
                      </a:lnTo>
                      <a:lnTo>
                        <a:pt x="390" y="501"/>
                      </a:lnTo>
                      <a:lnTo>
                        <a:pt x="405" y="531"/>
                      </a:lnTo>
                      <a:lnTo>
                        <a:pt x="411" y="624"/>
                      </a:lnTo>
                      <a:lnTo>
                        <a:pt x="372" y="657"/>
                      </a:lnTo>
                      <a:lnTo>
                        <a:pt x="315" y="711"/>
                      </a:lnTo>
                      <a:lnTo>
                        <a:pt x="276" y="738"/>
                      </a:lnTo>
                      <a:lnTo>
                        <a:pt x="225" y="738"/>
                      </a:lnTo>
                      <a:lnTo>
                        <a:pt x="180" y="762"/>
                      </a:lnTo>
                      <a:lnTo>
                        <a:pt x="93" y="762"/>
                      </a:lnTo>
                      <a:lnTo>
                        <a:pt x="33" y="690"/>
                      </a:lnTo>
                      <a:lnTo>
                        <a:pt x="18" y="651"/>
                      </a:lnTo>
                      <a:lnTo>
                        <a:pt x="12" y="600"/>
                      </a:lnTo>
                      <a:lnTo>
                        <a:pt x="0" y="570"/>
                      </a:lnTo>
                      <a:lnTo>
                        <a:pt x="6" y="381"/>
                      </a:lnTo>
                      <a:lnTo>
                        <a:pt x="42" y="312"/>
                      </a:lnTo>
                      <a:lnTo>
                        <a:pt x="75" y="261"/>
                      </a:lnTo>
                      <a:lnTo>
                        <a:pt x="123" y="240"/>
                      </a:lnTo>
                      <a:lnTo>
                        <a:pt x="156" y="228"/>
                      </a:lnTo>
                      <a:lnTo>
                        <a:pt x="210" y="207"/>
                      </a:lnTo>
                      <a:lnTo>
                        <a:pt x="231" y="192"/>
                      </a:lnTo>
                      <a:close/>
                    </a:path>
                  </a:pathLst>
                </a:custGeom>
                <a:noFill/>
                <a:ln cap="sq" w="3168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571720" y="3585960"/>
                  <a:ext cx="2133720" cy="1832040"/>
                </a:xfrm>
                <a:custGeom>
                  <a:avLst/>
                  <a:gdLst/>
                  <a:ahLst/>
                  <a:rect l="l" t="t" r="r" b="b"/>
                  <a:pathLst>
                    <a:path w="1344" h="1154">
                      <a:moveTo>
                        <a:pt x="1232" y="1154"/>
                      </a:moveTo>
                      <a:lnTo>
                        <a:pt x="1140" y="1006"/>
                      </a:lnTo>
                      <a:lnTo>
                        <a:pt x="1059" y="924"/>
                      </a:lnTo>
                      <a:lnTo>
                        <a:pt x="1029" y="813"/>
                      </a:lnTo>
                      <a:lnTo>
                        <a:pt x="971" y="702"/>
                      </a:lnTo>
                      <a:lnTo>
                        <a:pt x="918" y="526"/>
                      </a:lnTo>
                      <a:lnTo>
                        <a:pt x="901" y="439"/>
                      </a:lnTo>
                      <a:lnTo>
                        <a:pt x="813" y="374"/>
                      </a:lnTo>
                      <a:lnTo>
                        <a:pt x="719" y="304"/>
                      </a:lnTo>
                      <a:lnTo>
                        <a:pt x="579" y="316"/>
                      </a:lnTo>
                      <a:lnTo>
                        <a:pt x="427" y="351"/>
                      </a:lnTo>
                      <a:lnTo>
                        <a:pt x="363" y="404"/>
                      </a:lnTo>
                      <a:lnTo>
                        <a:pt x="322" y="480"/>
                      </a:lnTo>
                      <a:lnTo>
                        <a:pt x="322" y="696"/>
                      </a:lnTo>
                      <a:lnTo>
                        <a:pt x="351" y="760"/>
                      </a:lnTo>
                      <a:lnTo>
                        <a:pt x="409" y="813"/>
                      </a:lnTo>
                      <a:lnTo>
                        <a:pt x="480" y="825"/>
                      </a:lnTo>
                      <a:lnTo>
                        <a:pt x="561" y="836"/>
                      </a:lnTo>
                      <a:lnTo>
                        <a:pt x="614" y="854"/>
                      </a:lnTo>
                      <a:lnTo>
                        <a:pt x="696" y="784"/>
                      </a:lnTo>
                      <a:lnTo>
                        <a:pt x="708" y="661"/>
                      </a:lnTo>
                      <a:lnTo>
                        <a:pt x="626" y="608"/>
                      </a:lnTo>
                      <a:lnTo>
                        <a:pt x="678" y="567"/>
                      </a:lnTo>
                      <a:lnTo>
                        <a:pt x="760" y="602"/>
                      </a:lnTo>
                      <a:lnTo>
                        <a:pt x="790" y="661"/>
                      </a:lnTo>
                      <a:lnTo>
                        <a:pt x="801" y="842"/>
                      </a:lnTo>
                      <a:lnTo>
                        <a:pt x="725" y="907"/>
                      </a:lnTo>
                      <a:lnTo>
                        <a:pt x="614" y="1012"/>
                      </a:lnTo>
                      <a:lnTo>
                        <a:pt x="538" y="1065"/>
                      </a:lnTo>
                      <a:lnTo>
                        <a:pt x="439" y="1065"/>
                      </a:lnTo>
                      <a:lnTo>
                        <a:pt x="351" y="1111"/>
                      </a:lnTo>
                      <a:lnTo>
                        <a:pt x="181" y="1111"/>
                      </a:lnTo>
                      <a:lnTo>
                        <a:pt x="64" y="971"/>
                      </a:lnTo>
                      <a:lnTo>
                        <a:pt x="35" y="895"/>
                      </a:lnTo>
                      <a:lnTo>
                        <a:pt x="23" y="795"/>
                      </a:lnTo>
                      <a:lnTo>
                        <a:pt x="0" y="737"/>
                      </a:lnTo>
                      <a:lnTo>
                        <a:pt x="12" y="368"/>
                      </a:lnTo>
                      <a:lnTo>
                        <a:pt x="82" y="234"/>
                      </a:lnTo>
                      <a:lnTo>
                        <a:pt x="146" y="135"/>
                      </a:lnTo>
                      <a:lnTo>
                        <a:pt x="240" y="94"/>
                      </a:lnTo>
                      <a:lnTo>
                        <a:pt x="304" y="70"/>
                      </a:lnTo>
                      <a:lnTo>
                        <a:pt x="409" y="29"/>
                      </a:lnTo>
                      <a:lnTo>
                        <a:pt x="450" y="0"/>
                      </a:lnTo>
                      <a:lnTo>
                        <a:pt x="795" y="6"/>
                      </a:lnTo>
                      <a:lnTo>
                        <a:pt x="1006" y="117"/>
                      </a:lnTo>
                      <a:lnTo>
                        <a:pt x="1154" y="289"/>
                      </a:lnTo>
                      <a:lnTo>
                        <a:pt x="1302" y="460"/>
                      </a:lnTo>
                      <a:lnTo>
                        <a:pt x="1344" y="510"/>
                      </a:lnTo>
                    </a:path>
                  </a:pathLst>
                </a:custGeom>
                <a:noFill/>
                <a:ln cap="sq" w="381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4" name=""/>
          <p:cNvSpPr/>
          <p:nvPr/>
        </p:nvSpPr>
        <p:spPr>
          <a:xfrm>
            <a:off x="3124080" y="3048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tional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l technique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1981080" y="2438280"/>
            <a:ext cx="3722760" cy="3498840"/>
            <a:chOff x="1981080" y="2438280"/>
            <a:chExt cx="3722760" cy="3498840"/>
          </a:xfrm>
        </p:grpSpPr>
        <p:pic>
          <p:nvPicPr>
            <p:cNvPr id="687" name="" descr=""/>
            <p:cNvPicPr/>
            <p:nvPr/>
          </p:nvPicPr>
          <p:blipFill>
            <a:blip r:embed="rId1"/>
            <a:srcRect l="7271" t="0" r="0" b="0"/>
            <a:stretch/>
          </p:blipFill>
          <p:spPr>
            <a:xfrm>
              <a:off x="1981080" y="2438280"/>
              <a:ext cx="37227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2603520" y="4100400"/>
              <a:ext cx="115920" cy="115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97200" y="3081240"/>
              <a:ext cx="115920" cy="115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64040" y="3924360"/>
              <a:ext cx="115920" cy="115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8320" y="5387760"/>
              <a:ext cx="115920" cy="115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79920" y="5245200"/>
              <a:ext cx="115920" cy="115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1676520" y="9907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Example of the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rId2"/>
          </p:cNvPr>
          <p:cNvSpPr/>
          <p:nvPr/>
        </p:nvSpPr>
        <p:spPr>
          <a:xfrm>
            <a:off x="6248520" y="4800600"/>
            <a:ext cx="13716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1066680" y="2590920"/>
            <a:ext cx="3809880" cy="2773080"/>
            <a:chOff x="1066680" y="2590920"/>
            <a:chExt cx="3809880" cy="2773080"/>
          </a:xfrm>
        </p:grpSpPr>
        <p:pic>
          <p:nvPicPr>
            <p:cNvPr id="696" name="" descr=""/>
            <p:cNvPicPr/>
            <p:nvPr/>
          </p:nvPicPr>
          <p:blipFill>
            <a:blip r:embed="rId1"/>
            <a:srcRect l="3659" t="0" r="4771" b="0"/>
            <a:stretch/>
          </p:blipFill>
          <p:spPr>
            <a:xfrm>
              <a:off x="1066680" y="2590920"/>
              <a:ext cx="3809880" cy="27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1523880" y="4117680"/>
              <a:ext cx="115920" cy="115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68440" y="3465360"/>
              <a:ext cx="115920" cy="115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08120" y="3456000"/>
              <a:ext cx="115920" cy="115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11360" y="4114800"/>
              <a:ext cx="115920" cy="115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2411280" y="4724280"/>
              <a:ext cx="1155600" cy="124560"/>
              <a:chOff x="2411280" y="4724280"/>
              <a:chExt cx="1155600" cy="124560"/>
            </a:xfrm>
          </p:grpSpPr>
          <p:sp>
            <p:nvSpPr>
              <p:cNvPr id="702" name=""/>
              <p:cNvSpPr/>
              <p:nvPr/>
            </p:nvSpPr>
            <p:spPr>
              <a:xfrm>
                <a:off x="2411280" y="4733280"/>
                <a:ext cx="115920" cy="115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450960" y="4724280"/>
                <a:ext cx="115920" cy="115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5334120" y="2590920"/>
            <a:ext cx="3124080" cy="2773080"/>
            <a:chOff x="5334120" y="2590920"/>
            <a:chExt cx="3124080" cy="2773080"/>
          </a:xfrm>
        </p:grpSpPr>
        <p:pic>
          <p:nvPicPr>
            <p:cNvPr id="705" name="" descr=""/>
            <p:cNvPicPr/>
            <p:nvPr/>
          </p:nvPicPr>
          <p:blipFill>
            <a:blip r:embed="rId2"/>
            <a:srcRect l="4457" t="0" r="4045" b="0"/>
            <a:stretch/>
          </p:blipFill>
          <p:spPr>
            <a:xfrm>
              <a:off x="5334120" y="2590920"/>
              <a:ext cx="3124080" cy="27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6553080" y="3581280"/>
              <a:ext cx="115560" cy="115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80200" y="4682880"/>
              <a:ext cx="115200" cy="115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43800" y="4876560"/>
              <a:ext cx="115560" cy="115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35760" y="3695760"/>
              <a:ext cx="115560" cy="1152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1600200" y="10666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the 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66680" y="2362320"/>
            <a:ext cx="7848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Motivation to learn math (good examples of geometry and liner algeb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otivation to learn programming (good examples of data structure and O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new idea of the application that employs the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28800" y="304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 Graphics  for Education and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5120" y="1676520"/>
            <a:ext cx="6629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 tr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xtur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G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mooth sha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lat sh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ire frame model   surfa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eometric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1480" y="690480"/>
            <a:ext cx="66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 of Computer 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6880" y="838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09680"/>
            <a:ext cx="647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Fields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Layer of 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 CG Sampl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The Application of the third order Spline Curve for Satin embroid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30492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G sample programs for IT course with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752480"/>
            <a:ext cx="74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) The Primitive drawing tools in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2) Calculation of the coordinates of the points in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ransformation of a  plane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otation, Translation, Scaling,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3) Calculation of the coordinates of the points in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ransformation of a  plane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otation, Translation, Scaling,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rojection, Viewing Transformation, Z-Sort, Z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4)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pline, Bezier, B-Spline, NU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5)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6)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81080" y="9907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PMingLiU"/>
              </a:rPr>
              <a:t>Why OpenGL is chos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2362320"/>
            <a:ext cx="373356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or C++ sourc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886200"/>
            <a:ext cx="2895480" cy="1572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++ (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 for 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886200"/>
            <a:ext cx="3048120" cy="1572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  or gcc (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04960" y="2895480"/>
            <a:ext cx="68580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971800"/>
            <a:ext cx="60948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3808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The Primitive drawing tools (functions) in 2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/>
          </p:cNvPr>
          <p:cNvSpPr/>
          <p:nvPr/>
        </p:nvSpPr>
        <p:spPr>
          <a:xfrm>
            <a:off x="1447920" y="3352680"/>
            <a:ext cx="18288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2600" y="2057400"/>
            <a:ext cx="66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the primitive drawing functions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drawDot() or provided OpenG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/>
          </p:cNvPr>
          <p:cNvSpPr/>
          <p:nvPr/>
        </p:nvSpPr>
        <p:spPr>
          <a:xfrm>
            <a:off x="1143000" y="4191120"/>
            <a:ext cx="259092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Poly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/>
          </p:cNvPr>
          <p:cNvSpPr/>
          <p:nvPr/>
        </p:nvSpPr>
        <p:spPr>
          <a:xfrm>
            <a:off x="1143000" y="5029200"/>
            <a:ext cx="2590920" cy="1191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Polygon(),  fillPolygon(), gradatePolyg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114800"/>
            <a:ext cx="4038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 and filling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es and colors at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580920" y="4952880"/>
            <a:ext cx="114300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5410080"/>
            <a:ext cx="1371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580920" y="5943600"/>
            <a:ext cx="11430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1:34:27Z</dcterms:created>
  <dc:creator>kosaka</dc:creator>
  <dc:description/>
  <dc:language>en-US</dc:language>
  <cp:lastModifiedBy>KOSAKA</cp:lastModifiedBy>
  <dcterms:modified xsi:type="dcterms:W3CDTF">2001-09-21T09:12:01Z</dcterms:modified>
  <cp:revision>46</cp:revision>
  <dc:subject/>
  <dc:title>PowerPoint プレゼンテーション</dc:title>
</cp:coreProperties>
</file>